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A9E1-133A-49EC-B4F4-1793E1F1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F81-6986-40DA-A42F-B9530552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6C4-A884-48CA-8C13-60CF1AAB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68D-97B5-4250-BAE3-59ED5E1A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06A-5BF7-4251-A164-52659197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CF1-2B07-45FE-A4CE-D42FB92C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777-109B-494E-961D-4DA03E77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52F-3658-4944-8378-60738CFA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184-9B52-4077-B741-6B0E423E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CF8-9147-4AF4-AB77-F29BC219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0D9-BE26-4E84-B23A-4245A781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F53-7C7B-4C01-A94E-405CDD4D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E5476-5FC3-450B-BF10-2D8A4E9585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640" y="1785600"/>
            <a:ext cx="61200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ECRAN Regional Training Workshop on linkages between Appropriate Assessment </a:t>
            </a:r>
            <a:r>
              <a:rPr b="1" lang="cs-CZ" sz="3600" spc="-1" strike="noStrike">
                <a:solidFill>
                  <a:srgbClr val="000000"/>
                </a:solidFill>
                <a:latin typeface="Arial Narrow"/>
              </a:rPr>
              <a:t>(AA) </a:t>
            </a: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and SEA/EIA</a:t>
            </a: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 Narrow"/>
              </a:rPr>
              <a:t>Zagreb, Croat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October 30 – 31, 2014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This Project is funded by the European Un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fbeelding 32" descr="jaune.jpg"/>
          <p:cNvPicPr/>
          <p:nvPr/>
        </p:nvPicPr>
        <p:blipFill>
          <a:blip r:embed="rId1"/>
          <a:stretch/>
        </p:blipFill>
        <p:spPr>
          <a:xfrm>
            <a:off x="395280" y="6308640"/>
            <a:ext cx="590400" cy="381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0" y="380160"/>
            <a:ext cx="339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</a:t>
            </a: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fbeelding 33" descr="HD_psc 4c CMYK"/>
          <p:cNvPicPr/>
          <p:nvPr/>
        </p:nvPicPr>
        <p:blipFill>
          <a:blip r:embed="rId2"/>
          <a:stretch/>
        </p:blipFill>
        <p:spPr>
          <a:xfrm>
            <a:off x="4643280" y="6308640"/>
            <a:ext cx="752760" cy="35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83120" y="6381000"/>
            <a:ext cx="41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A project implemented by Human Dynamics Consort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3"/>
          <a:stretch/>
        </p:blipFill>
        <p:spPr>
          <a:xfrm>
            <a:off x="3419640" y="620640"/>
            <a:ext cx="4787640" cy="5461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" descr=""/>
          <p:cNvPicPr/>
          <p:nvPr/>
        </p:nvPicPr>
        <p:blipFill>
          <a:blip r:embed="rId4"/>
          <a:stretch/>
        </p:blipFill>
        <p:spPr>
          <a:xfrm>
            <a:off x="900000" y="333360"/>
            <a:ext cx="100800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7CF-EC42-42C8-8A2A-ADB4AF95AC3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of N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2K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establ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of target feature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s Directive Annex 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+ regularly occurring migratory spec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abitats Directive Annex I (habitat typ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abitats Directive Annex II (speci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Must not be mixed up with features from other Directive´s annex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pecies protection is a different subject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6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CDF3-EDF0-4D81-88A3-C4379C946D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44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N2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195640" y="3213000"/>
            <a:ext cx="720720" cy="1152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16360" y="3068280"/>
            <a:ext cx="1655640" cy="144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572000" y="242064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2421000"/>
            <a:ext cx="935280" cy="1439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84720" y="3860640"/>
            <a:ext cx="1727280" cy="792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4653000"/>
            <a:ext cx="574560" cy="1081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4365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566100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48000" y="5734080"/>
            <a:ext cx="1511280" cy="287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27280" y="4005360"/>
            <a:ext cx="216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479736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059280" y="4797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924000" y="4365360"/>
            <a:ext cx="1429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924360" y="4076280"/>
            <a:ext cx="9349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859280" y="3499920"/>
            <a:ext cx="217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80000" y="3500280"/>
            <a:ext cx="1296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843280" y="3716280"/>
            <a:ext cx="936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4724280"/>
            <a:ext cx="287280" cy="289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869000"/>
            <a:ext cx="215640" cy="215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4149720"/>
            <a:ext cx="287280" cy="287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716280"/>
            <a:ext cx="71280" cy="73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3141720"/>
            <a:ext cx="216000" cy="216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2997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2K 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4005360"/>
            <a:ext cx="1800000" cy="718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84720" y="4437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nge of 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435640" y="285264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263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BF7-1959-439C-950D-442E92151E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arget featur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arget feature occurs at the territory of a M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 least 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/SCI must be designa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042-A5EA-4390-8C5D-E59F8EA3EDC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es of establishment of N2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4, Annex III HabDir + several documents of the EC approved by Member Sta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atura 2000 si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rget feat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hav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ervation ob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6B9-F170-492C-9C65-6E99C0CE294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terms crucial for AA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2K network require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te integrit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to be maintain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cological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herence of the networ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to be maintain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m defined in the Directiv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tt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finitions developed over tim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4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3A5-5E36-4899-9572-55F26C36681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) site integr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site integrity is maintained when all ecological functions and site structure needed for maintenance of target features are present and well-functioning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within the sit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7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835280" y="4581360"/>
            <a:ext cx="2373120" cy="1751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300720" y="3860640"/>
            <a:ext cx="2274840" cy="2275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>
            <a:off x="3564000" y="5013000"/>
            <a:ext cx="331308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763280" y="4653000"/>
            <a:ext cx="2016360" cy="144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4653000"/>
            <a:ext cx="180036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CAE-6D52-4D69-BD04-3F74E537381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) c</a:t>
            </a:r>
            <a:r>
              <a:rPr b="0" lang="en" sz="4400" spc="-1" strike="noStrike">
                <a:solidFill>
                  <a:srgbClr val="000000"/>
                </a:solidFill>
                <a:latin typeface="Arial"/>
              </a:rPr>
              <a:t>oherence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of N2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means that the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comprises all the sites which, according to the criteria in the Directives, </a:t>
            </a:r>
            <a:r>
              <a:rPr b="0" i="1" lang="en" sz="2800" spc="-1" strike="noStrike">
                <a:solidFill>
                  <a:srgbClr val="000000"/>
                </a:solidFill>
                <a:latin typeface="Arial"/>
              </a:rPr>
              <a:t>should be include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in 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5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916360" y="3573360"/>
            <a:ext cx="3168360" cy="2338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916360" y="3573360"/>
            <a:ext cx="3168360" cy="244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6B4-B199-48B7-BE45-7217BF6F95D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Pleas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member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ntegrity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refers to individual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si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oherence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refers to the whole Natura 2000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0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396-D48E-41DA-9E5F-CB5572EE956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Pleas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member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ntegrity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refers to individual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si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oherence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refers to the whole Natura 2000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3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Why is this important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3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Because of </a:t>
            </a:r>
            <a:r>
              <a:rPr b="0" i="1" lang="en" sz="2800" spc="-1" strike="noStrike">
                <a:solidFill>
                  <a:srgbClr val="000000"/>
                </a:solidFill>
                <a:latin typeface="Arial"/>
              </a:rPr>
              <a:t>different requirements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of Art. 6(3) and 6(4) of the Habitats Directiv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3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63B-C765-4135-8A9D-B18227E7314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" sz="4400" spc="-1" strike="noStrike">
                <a:solidFill>
                  <a:srgbClr val="000000"/>
                </a:solidFill>
                <a:latin typeface="Arial"/>
              </a:rPr>
              <a:t>Now back to Natura 2000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t the end of preparatory process (= before accession!), each E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ndidate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should hav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" sz="2800" spc="-1" strike="noStrike">
                <a:solidFill>
                  <a:srgbClr val="000000"/>
                </a:solidFill>
                <a:latin typeface="Arial"/>
              </a:rPr>
              <a:t>ompleted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i.e.,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" sz="2800" spc="-1" strike="noStrike">
                <a:solidFill>
                  <a:srgbClr val="000000"/>
                </a:solidFill>
                <a:latin typeface="Arial"/>
              </a:rPr>
              <a:t>coherent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Natura 2000 network at its terri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6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B96B-BDB5-4C62-B435-9956454DBAD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" sz="4400" spc="-1" strike="noStrike">
                <a:solidFill>
                  <a:srgbClr val="000000"/>
                </a:solidFill>
                <a:latin typeface="Arial"/>
              </a:rPr>
              <a:t>Introduction to the topic:</a:t>
            </a:r>
            <a:br>
              <a:rPr sz="4400"/>
            </a:br>
            <a:r>
              <a:rPr b="0" lang="en" sz="4400" spc="-1" strike="noStrike">
                <a:solidFill>
                  <a:srgbClr val="000000"/>
                </a:solidFill>
                <a:latin typeface="Arial"/>
              </a:rPr>
              <a:t>Natura 2000 as an object of Appropriate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64464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4D6-B6E1-4356-B5AA-1F65AE874EA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Arial"/>
              </a:rPr>
              <a:t>Natura 2000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– reflection of country natural conditions and its biodiver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statistic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 2000 network covers approx. 17 % of terrestrial E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39640" y="4221000"/>
            <a:ext cx="4497480" cy="23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004-1054-45CE-AD43-3570CFA58E8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192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292720" y="3040200"/>
            <a:ext cx="3486240" cy="3817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042920" y="3284640"/>
            <a:ext cx="2524320" cy="3573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859280" y="0"/>
            <a:ext cx="4284720" cy="30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D18-7E44-4563-A76D-CE3AB8011A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asic rule f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2K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establ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of N2K sites must not be affected by any social, political or economic viewpoints“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rt. 2(3) HabDir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as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ken pursuant to this Directive shall take account of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, social and cultural requirements and regional and local characteristic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475-B1BB-4C0D-AE7C-7F7AC5CDA4C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" sz="4400" spc="-1" strike="noStrike">
                <a:solidFill>
                  <a:srgbClr val="000000"/>
                </a:solidFill>
                <a:latin typeface="Arial"/>
              </a:rPr>
              <a:t>How many 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igations refer to N2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 country level - 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y 3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roactiv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activ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in Art. 6 HabDi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2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3EA-AA5E-4D2B-AB06-742C9CE7068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active</a:t>
            </a:r>
            <a:r>
              <a:rPr b="0" lang="en" sz="4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ig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conservation measures and applying them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ll sites (Art. 6(1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ng any deterioration of habitat types and habitats of species, as well as disturbance of species (Art. 6(2)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5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39A-F592-41FB-AFA9-CB8EC937C71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" sz="4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ny plan and project likely to affect N2K sites is subjec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priate 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ts implications for the site in view of the site's conservation objectives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8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1B0-CB1A-4153-BA5B-143E1C99FF3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" sz="4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ny plan and project likely to affect N2K sites is subjec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priate 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ts implications for the site in view of the site's conservation objectives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is is why we are here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1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E74-3A83-4EC6-8A96-2D9D0E6158F2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2K = Natura 2000 networ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161-039C-419E-9E0A-A565595F50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nale behin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N2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0s – recognition of inefficiency of separated national nature policie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does not recognize borders”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h an idea implementable only in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ental scale and under certain political cond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– unique chance for su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pproa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3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020000" y="4437000"/>
            <a:ext cx="1903320" cy="173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891-1A2B-48FC-82B3-42163845F4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nale behin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N2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9 – EU Birds Directive – first attempt to make nature protection “supranatural”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U 9 MS had to establish SP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rules, no instructions, n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ranational contr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ult: by 2000 almost no implement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on lear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gation left purely up to Member States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effe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rdly enforceab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7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1BA-B458-482B-AAAA-43037754FB9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nale behin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N2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29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2 EU Habitats Directive (92/43/EEC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artly new approa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an obligation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to </a:t>
            </a:r>
            <a:br>
              <a:rPr sz="2800"/>
            </a:b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establish “non-bird” sites </a:t>
            </a:r>
            <a:br>
              <a:rPr sz="2800"/>
            </a:b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(SCI, SAC) across EU 12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sites will not be randomly clustered </a:t>
            </a:r>
            <a:br>
              <a:rPr sz="2800"/>
            </a:b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  <a:ea typeface="SimSun"/>
              </a:rPr>
              <a:t>are to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" sz="28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called </a:t>
            </a:r>
            <a:br>
              <a:rPr sz="2800"/>
            </a:b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atura 200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  <a:ea typeface="SimSun"/>
              </a:rPr>
              <a:t>supranational external check of sufficiency of the network secur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0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372360" y="2205000"/>
            <a:ext cx="2771640" cy="25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484-E3D4-41D4-B71F-950643B85A7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nale behin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N2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29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 2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network will encompass bot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ites pursuant to the Habitats Directiv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ites pursuant to the Birds Directiv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network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two types of sites with different legal require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4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DF5-92F0-49E8-83D0-F2260792B7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ázek 4" descr=""/>
          <p:cNvPicPr/>
          <p:nvPr/>
        </p:nvPicPr>
        <p:blipFill>
          <a:blip r:embed="rId1"/>
          <a:srcRect l="0" t="89416" r="0" b="-89914"/>
          <a:stretch/>
        </p:blipFill>
        <p:spPr>
          <a:xfrm>
            <a:off x="0" y="6093000"/>
            <a:ext cx="9144000" cy="68752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1720" y="188640"/>
            <a:ext cx="84135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erlap of sites quite frequen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example: SPA Jeseníky and SCI Praděd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SimSun"/>
              </a:rPr>
              <a:t>Czech Republ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ázek 1" descr=""/>
          <p:cNvPicPr/>
          <p:nvPr/>
        </p:nvPicPr>
        <p:blipFill>
          <a:blip r:embed="rId2"/>
          <a:srcRect l="4135" t="5572" r="4135" b="5882"/>
          <a:stretch/>
        </p:blipFill>
        <p:spPr>
          <a:xfrm>
            <a:off x="755640" y="981000"/>
            <a:ext cx="7516800" cy="5130720"/>
          </a:xfrm>
          <a:prstGeom prst="rect">
            <a:avLst/>
          </a:prstGeom>
          <a:ln w="0">
            <a:noFill/>
          </a:ln>
        </p:spPr>
      </p:pic>
      <p:sp>
        <p:nvSpPr>
          <p:cNvPr id="78" name="Obdélník 6"/>
          <p:cNvSpPr/>
          <p:nvPr/>
        </p:nvSpPr>
        <p:spPr>
          <a:xfrm>
            <a:off x="5094360" y="1268280"/>
            <a:ext cx="19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21.66 k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bdélník 8"/>
          <p:cNvSpPr/>
          <p:nvPr/>
        </p:nvSpPr>
        <p:spPr>
          <a:xfrm>
            <a:off x="3581280" y="2852640"/>
            <a:ext cx="18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0.71k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bdélník 19"/>
          <p:cNvSpPr/>
          <p:nvPr/>
        </p:nvSpPr>
        <p:spPr>
          <a:xfrm>
            <a:off x="4302000" y="4902120"/>
            <a:ext cx="19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21.66 k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A574-F680-4053-BDDA-6F7708740D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of N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2K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establ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2K sites: always must have defin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rget feat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featur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ecte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 spec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bird animal spec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spec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habitat types”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3" name="Picture 44" descr=""/>
          <p:cNvPicPr/>
          <p:nvPr/>
        </p:nvPicPr>
        <p:blipFill>
          <a:blip r:embed="rId1"/>
          <a:stretch/>
        </p:blipFill>
        <p:spPr>
          <a:xfrm>
            <a:off x="6732720" y="6381720"/>
            <a:ext cx="2228760" cy="25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2E3-9B10-49B2-BB9B-4B5DC5F1B8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r Roth</cp:lastModifiedBy>
  <cp:lastPrinted>2004-11-17T18:27:25Z</cp:lastPrinted>
  <dcterms:modified xsi:type="dcterms:W3CDTF">2014-10-28T17:15:50Z</dcterms:modified>
  <cp:revision>212</cp:revision>
  <dc:subject/>
  <dc:title>PowerPoint Presentation</dc:title>
</cp:coreProperties>
</file>