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807-8F6D-43A5-AA16-D47F37CD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804-9ADA-4215-9197-712D91EC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93C-0F35-4073-B898-33634B26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53D-B7A4-44EE-A0A7-E15716FF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E595-3D87-41AD-ABF9-995FA522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B6E4-9CE5-467C-B6F9-FF33DB97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D775-244C-4E38-BD0C-E24A584E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1866-EAED-494C-8223-FD334693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71FF-4648-4D61-8C68-2359A54A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D339-6162-478C-9D96-0B58F1D4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DA28-75ED-4290-ABF9-66B85635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0AA8-9A3B-4B29-BD18-AF942C1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836A-7269-4A8F-A011-15852E6F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C847-03AF-48D8-9709-B210C45F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2973-81B6-4AD9-8FFA-0ACCB6FB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143E-0401-4093-A084-63B3C82C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C7C0-581F-453E-9E68-FA1FF48F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D57-FD25-48B6-ADA3-059CEAF3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C52-4E3B-4B90-8262-9ED6AC62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FB2-8CA8-4214-819E-047596B3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41E-79B1-4CC9-B649-1ADD2A6C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EE7-6336-4781-B6DC-DD1A621F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2B2-9791-407B-B6D2-B7D02B8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C09-1CDF-4FFD-9253-172E4570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160B-D822-46DE-AAC5-D60633FC0A3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F944-9734-42E8-AD16-A3093B369BF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image" Target="../media/image27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5B00-263A-4D2B-9E09-F86D52A0525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AA and EIA/SEA in Sl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Tina Klemenčič, B.Sc.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reb, 31.10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rostorska_ureditev"/>
          <p:cNvPicPr/>
          <p:nvPr/>
        </p:nvPicPr>
        <p:blipFill>
          <a:blip r:embed="rId1"/>
          <a:stretch/>
        </p:blipFill>
        <p:spPr>
          <a:xfrm>
            <a:off x="2700360" y="3860640"/>
            <a:ext cx="3887640" cy="2862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do we prepare such guideli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50560" y="1413000"/>
            <a:ext cx="8435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need good knowledg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ned activities and their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nt species and habi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gical demands of present species and habi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ANd9GcTHC1cUbjSs588Jt5Jkq6_an-_XrcymlIVHKaBRAGyD41R2gvW4"/>
          <p:cNvPicPr/>
          <p:nvPr/>
        </p:nvPicPr>
        <p:blipFill>
          <a:blip r:embed="rId2"/>
          <a:stretch/>
        </p:blipFill>
        <p:spPr>
          <a:xfrm>
            <a:off x="179280" y="3357720"/>
            <a:ext cx="3384720" cy="2252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ANd9GcRXgAhZ5gJAHzqMExAInY6pSvlBbRsQzp55DI8uEM-PScHJV7Gd"/>
          <p:cNvPicPr/>
          <p:nvPr/>
        </p:nvPicPr>
        <p:blipFill>
          <a:blip r:embed="rId3"/>
          <a:stretch/>
        </p:blipFill>
        <p:spPr>
          <a:xfrm>
            <a:off x="5580000" y="3429000"/>
            <a:ext cx="31878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B6A2-52FD-4EE6-A9DB-85A440253D4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EBFD-B790-44A5-8E45-45137074C94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332000" y="260280"/>
            <a:ext cx="73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SEA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5092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Consenting Authority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Ministry in charge for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95280" y="2060640"/>
            <a:ext cx="216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phase: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79280" y="3213000"/>
            <a:ext cx="2521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l-SI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phase: Scoping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ssessment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11280" y="544500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9999"/>
                </a:solidFill>
                <a:latin typeface="Calibri"/>
              </a:rPr>
              <a:t>3</a:t>
            </a:r>
            <a:r>
              <a:rPr b="0" lang="sl-SI" sz="1600" spc="-1" strike="noStrike" baseline="30000">
                <a:solidFill>
                  <a:srgbClr val="009999"/>
                </a:solidFill>
                <a:latin typeface="Calibri"/>
              </a:rPr>
              <a:t>rd</a:t>
            </a:r>
            <a:r>
              <a:rPr b="0" lang="sl-SI" sz="1600" spc="-1" strike="noStrike">
                <a:solidFill>
                  <a:srgbClr val="009999"/>
                </a:solidFill>
                <a:latin typeface="Calibri"/>
              </a:rPr>
              <a:t> and 4</a:t>
            </a:r>
            <a:r>
              <a:rPr b="0" lang="sl-SI" sz="1600" spc="-1" strike="noStrike" baseline="30000">
                <a:solidFill>
                  <a:srgbClr val="009999"/>
                </a:solidFill>
                <a:latin typeface="Calibri"/>
              </a:rPr>
              <a:t>th</a:t>
            </a:r>
            <a:r>
              <a:rPr b="0" lang="sl-SI" sz="1600" spc="-1" strike="noStrike">
                <a:solidFill>
                  <a:srgbClr val="009999"/>
                </a:solidFill>
                <a:latin typeface="Calibri"/>
              </a:rPr>
              <a:t> pha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9999"/>
                </a:solidFill>
                <a:latin typeface="Calibri"/>
              </a:rPr>
              <a:t>IRO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276720" y="5589720"/>
            <a:ext cx="1584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9999"/>
                </a:solidFill>
                <a:latin typeface="Calibri"/>
              </a:rPr>
              <a:t>Plan pro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268360" y="333360"/>
            <a:ext cx="58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>
            <a:off x="324000" y="2997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468360" y="522936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324000" y="1844640"/>
            <a:ext cx="69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39640" y="6237360"/>
            <a:ext cx="237672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o cases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708360" y="2349360"/>
            <a:ext cx="934920" cy="2890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RS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2987640" y="1916280"/>
            <a:ext cx="23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Expert opinion: scre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372360" y="2565360"/>
            <a:ext cx="934920" cy="289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in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5724360" y="2060640"/>
            <a:ext cx="23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Decision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about 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of SEA and AA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132000" y="3645000"/>
            <a:ext cx="208944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Private consultanci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Institutes, NGO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059280" y="3141720"/>
            <a:ext cx="23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Environmental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+ assessment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6300720" y="285264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xpert opinion on ER and AA 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nd acceptability of impacts of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659640" y="3645000"/>
            <a:ext cx="934920" cy="28872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RS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5796000" y="4005360"/>
            <a:ext cx="252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Joint opinion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n ER and A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Decision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n acceptability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659640" y="4653000"/>
            <a:ext cx="934920" cy="288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in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6227640" y="522936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9999"/>
                </a:solidFill>
                <a:latin typeface="Calibri"/>
              </a:rPr>
              <a:t>Expert opinion on alter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9999"/>
                </a:solidFill>
                <a:latin typeface="Calibri"/>
              </a:rPr>
              <a:t>solutions and compensation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6659640" y="6021360"/>
            <a:ext cx="934920" cy="2890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RS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732720" y="6568920"/>
            <a:ext cx="934920" cy="289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in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5295240" y="65214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675E-49AA-483C-AE5A-08E6A8AA5AF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A within SEA: Analysis of expert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ca. 200 opinions per year in SEA procedure on first and second pha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First phase (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3419640" y="2924280"/>
            <a:ext cx="50479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DD9C-EF03-4A57-83D4-729890C390A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2734-57D0-4834-B34D-69A4E03EEAF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1332000" y="260280"/>
            <a:ext cx="735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EIA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50920" y="148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Consenting Authority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Environmental ag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95280" y="2060640"/>
            <a:ext cx="216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l-SI" sz="2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phase: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79280" y="3213000"/>
            <a:ext cx="2521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l-SI" sz="1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phase: Scoping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ssessment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544500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9999"/>
                </a:solidFill>
                <a:latin typeface="Calibri"/>
              </a:rPr>
              <a:t>3</a:t>
            </a:r>
            <a:r>
              <a:rPr b="0" lang="sl-SI" sz="1600" spc="-1" strike="noStrike" baseline="30000">
                <a:solidFill>
                  <a:srgbClr val="009999"/>
                </a:solidFill>
                <a:latin typeface="Calibri"/>
              </a:rPr>
              <a:t>rd</a:t>
            </a:r>
            <a:r>
              <a:rPr b="0" lang="sl-SI" sz="1600" spc="-1" strike="noStrike">
                <a:solidFill>
                  <a:srgbClr val="009999"/>
                </a:solidFill>
                <a:latin typeface="Calibri"/>
              </a:rPr>
              <a:t> and 4</a:t>
            </a:r>
            <a:r>
              <a:rPr b="0" lang="sl-SI" sz="1600" spc="-1" strike="noStrike" baseline="30000">
                <a:solidFill>
                  <a:srgbClr val="009999"/>
                </a:solidFill>
                <a:latin typeface="Calibri"/>
              </a:rPr>
              <a:t>th</a:t>
            </a:r>
            <a:r>
              <a:rPr b="0" lang="sl-SI" sz="1600" spc="-1" strike="noStrike">
                <a:solidFill>
                  <a:srgbClr val="009999"/>
                </a:solidFill>
                <a:latin typeface="Calibri"/>
              </a:rPr>
              <a:t> pha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9999"/>
                </a:solidFill>
                <a:latin typeface="Calibri"/>
              </a:rPr>
              <a:t>IRO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3276720" y="5589720"/>
            <a:ext cx="1584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9999"/>
                </a:solidFill>
                <a:latin typeface="Calibri"/>
              </a:rPr>
              <a:t>Inves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2268360" y="333360"/>
            <a:ext cx="58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>
            <a:off x="324000" y="2997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5"/>
          <p:cNvSpPr/>
          <p:nvPr/>
        </p:nvSpPr>
        <p:spPr>
          <a:xfrm>
            <a:off x="468360" y="522936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6"/>
          <p:cNvSpPr/>
          <p:nvPr/>
        </p:nvSpPr>
        <p:spPr>
          <a:xfrm>
            <a:off x="324000" y="1844640"/>
            <a:ext cx="69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539640" y="6237360"/>
            <a:ext cx="237672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o cases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708360" y="2349360"/>
            <a:ext cx="934920" cy="2890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RS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2987640" y="1916280"/>
            <a:ext cx="23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Expert opinion: scre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372360" y="2565360"/>
            <a:ext cx="934920" cy="289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5724360" y="2060640"/>
            <a:ext cx="230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Decision about 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of EIA and AA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132000" y="3645000"/>
            <a:ext cx="208944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Private consultanci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Institutes, NGO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3059280" y="3141720"/>
            <a:ext cx="23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Environmental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+ assessment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6300720" y="285264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xpert opinion on ER and AA 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nd acceptability of impacts of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dditional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659640" y="3789360"/>
            <a:ext cx="934920" cy="2890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RS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5867280" y="4149720"/>
            <a:ext cx="252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Joint opinion on ER and A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ecision on acceptability of impac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nvironmental 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659640" y="4869000"/>
            <a:ext cx="934920" cy="288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6227640" y="522936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9999"/>
                </a:solidFill>
                <a:latin typeface="Calibri"/>
              </a:rPr>
              <a:t>Expert opinion on alter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9999"/>
                </a:solidFill>
                <a:latin typeface="Calibri"/>
              </a:rPr>
              <a:t>solutions and compensation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659640" y="6021360"/>
            <a:ext cx="934920" cy="2890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RS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732720" y="6568920"/>
            <a:ext cx="934920" cy="289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3"/>
          <p:cNvSpPr/>
          <p:nvPr/>
        </p:nvSpPr>
        <p:spPr>
          <a:xfrm>
            <a:off x="5292360" y="652140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775A-79AF-49EC-A2FE-2C7D2105262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grada številke diapoz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D35B-0DEC-4D56-AE01-2A7326C2E31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A within EIA and other procedur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on projec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7928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senting authority is Environmental Agency, local authorities or other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struction permit and other permits: AA is made by IRS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A within EIA: similar as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(cca. 15 per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alysis of expert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"/>
          <p:cNvPicPr/>
          <p:nvPr/>
        </p:nvPicPr>
        <p:blipFill>
          <a:blip r:embed="rId2"/>
          <a:stretch/>
        </p:blipFill>
        <p:spPr>
          <a:xfrm>
            <a:off x="4286160" y="1378080"/>
            <a:ext cx="4533840" cy="2562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"/>
          <p:cNvPicPr/>
          <p:nvPr/>
        </p:nvPicPr>
        <p:blipFill>
          <a:blip r:embed="rId3"/>
          <a:stretch/>
        </p:blipFill>
        <p:spPr>
          <a:xfrm>
            <a:off x="4284720" y="3933720"/>
            <a:ext cx="3990960" cy="2762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4"/>
          <a:stretch/>
        </p:blipFill>
        <p:spPr>
          <a:xfrm>
            <a:off x="826920" y="5300640"/>
            <a:ext cx="2843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ticle 6.3 of the Habitats Di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4360" y="1413000"/>
            <a:ext cx="7991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t 6.3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6b6bc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b6bcf"/>
                </a:solidFill>
                <a:latin typeface="Calibri"/>
              </a:rPr>
              <a:t>Any plan or projec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t directly connected with or necessary to the management of th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ut </a:t>
            </a:r>
            <a:r>
              <a:rPr b="0" lang="en-GB" sz="1800" spc="-1" strike="noStrike">
                <a:solidFill>
                  <a:srgbClr val="6b6bcf"/>
                </a:solidFill>
                <a:latin typeface="Calibri"/>
              </a:rPr>
              <a:t>likely to have a significant effec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reon, either </a:t>
            </a:r>
            <a:r>
              <a:rPr b="0" lang="en-GB" sz="1800" spc="-1" strike="noStrike">
                <a:solidFill>
                  <a:srgbClr val="6b6bcf"/>
                </a:solidFill>
                <a:latin typeface="Calibri"/>
              </a:rPr>
              <a:t>individually or in combinati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with other plans or pro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6b6bc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b6bcf"/>
                </a:solidFill>
                <a:latin typeface="Calibri"/>
              </a:rPr>
              <a:t>shall be subject to appropriate assessmen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f its implications for the site in view of the site's conservation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the light of the conclusions of the assessment of the implications for the site and subject to the provisions of paragraph 4, </a:t>
            </a:r>
            <a:r>
              <a:rPr b="0" lang="en-GB" sz="1800" spc="-1" strike="noStrike">
                <a:solidFill>
                  <a:srgbClr val="6b6bcf"/>
                </a:solidFill>
                <a:latin typeface="Calibri"/>
              </a:rPr>
              <a:t>the competent national authorities shall agree to the plan or project only after having ascertained that it will not adversely affect the integrity of the site concerned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, if appropriate, after having obtained the opinion of the general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ravokotnik 5"/>
          <p:cNvSpPr/>
          <p:nvPr/>
        </p:nvSpPr>
        <p:spPr>
          <a:xfrm>
            <a:off x="6781680" y="6021360"/>
            <a:ext cx="1635120" cy="576360"/>
          </a:xfrm>
          <a:prstGeom prst="rect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cautionary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ravokotnik 6"/>
          <p:cNvSpPr/>
          <p:nvPr/>
        </p:nvSpPr>
        <p:spPr>
          <a:xfrm>
            <a:off x="5148360" y="2997360"/>
            <a:ext cx="1633320" cy="576000"/>
          </a:xfrm>
          <a:prstGeom prst="rect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Cumulativ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ravokotnik 7"/>
          <p:cNvSpPr/>
          <p:nvPr/>
        </p:nvSpPr>
        <p:spPr>
          <a:xfrm>
            <a:off x="5724360" y="3933720"/>
            <a:ext cx="1635120" cy="576360"/>
          </a:xfrm>
          <a:prstGeom prst="rect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ravokotnik 5"/>
          <p:cNvSpPr/>
          <p:nvPr/>
        </p:nvSpPr>
        <p:spPr>
          <a:xfrm>
            <a:off x="7020000" y="2997360"/>
            <a:ext cx="1635120" cy="576000"/>
          </a:xfrm>
          <a:prstGeom prst="rect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cautionary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324000" y="4292640"/>
            <a:ext cx="2087280" cy="2077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ANd9GcSOcfkhzT0RUoyll7LNzbr69SeyCoajXvssk5FurK_uqjxDpibx"/>
          <p:cNvPicPr/>
          <p:nvPr/>
        </p:nvPicPr>
        <p:blipFill>
          <a:blip r:embed="rId2"/>
          <a:stretch/>
        </p:blipFill>
        <p:spPr>
          <a:xfrm>
            <a:off x="6012000" y="4437000"/>
            <a:ext cx="2979720" cy="198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ANd9GcR2LDJWYjnz3McP5t5faQUC_9v5H5LC5Jac4ZnrGimx9zk3YvG8"/>
          <p:cNvPicPr/>
          <p:nvPr/>
        </p:nvPicPr>
        <p:blipFill>
          <a:blip r:embed="rId3"/>
          <a:stretch/>
        </p:blipFill>
        <p:spPr>
          <a:xfrm>
            <a:off x="2627280" y="4365720"/>
            <a:ext cx="3095640" cy="2060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"/>
          <p:cNvPicPr/>
          <p:nvPr/>
        </p:nvPicPr>
        <p:blipFill>
          <a:blip r:embed="rId4"/>
          <a:stretch/>
        </p:blipFill>
        <p:spPr>
          <a:xfrm>
            <a:off x="3492360" y="907920"/>
            <a:ext cx="2346480" cy="28242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2"/>
          <p:cNvSpPr/>
          <p:nvPr/>
        </p:nvSpPr>
        <p:spPr>
          <a:xfrm>
            <a:off x="4140360" y="5013360"/>
            <a:ext cx="129672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2340000" y="333360"/>
            <a:ext cx="44654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Ke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s plan or project likely to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gnificant adverse impact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tura 2000 si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39640" y="3357720"/>
            <a:ext cx="3311640" cy="1512720"/>
          </a:xfrm>
          <a:prstGeom prst="rect">
            <a:avLst/>
          </a:prstGeom>
          <a:solidFill>
            <a:srgbClr val="6fd5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ignificant adver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mpact is not lik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5435640" y="3357720"/>
            <a:ext cx="3311640" cy="1512720"/>
          </a:xfrm>
          <a:prstGeom prst="rect">
            <a:avLst/>
          </a:prstGeom>
          <a:solidFill>
            <a:srgbClr val="ec88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ignificant adverse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can not be rule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124000" y="2133720"/>
            <a:ext cx="2160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5435640" y="2133720"/>
            <a:ext cx="180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2124000" y="260280"/>
            <a:ext cx="2881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 project likely to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dverse impact on 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2000 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6443640" y="476280"/>
            <a:ext cx="936720" cy="649080"/>
          </a:xfrm>
          <a:prstGeom prst="rect">
            <a:avLst/>
          </a:prstGeom>
          <a:solidFill>
            <a:srgbClr val="6fd5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 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5003640" y="76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79280" y="1773360"/>
            <a:ext cx="1584360" cy="504720"/>
          </a:xfrm>
          <a:prstGeom prst="rect">
            <a:avLst/>
          </a:prstGeom>
          <a:solidFill>
            <a:srgbClr val="ec88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YES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OT CER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 flipH="1">
            <a:off x="971280" y="1233360"/>
            <a:ext cx="1152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2195640" y="1557360"/>
            <a:ext cx="2881080" cy="100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 it possible to miti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ll impacts to the 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nsignific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176364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6551640" y="1773360"/>
            <a:ext cx="936720" cy="649080"/>
          </a:xfrm>
          <a:prstGeom prst="rect">
            <a:avLst/>
          </a:prstGeom>
          <a:solidFill>
            <a:srgbClr val="6fd5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5111640" y="206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3"/>
          <p:cNvSpPr/>
          <p:nvPr/>
        </p:nvSpPr>
        <p:spPr>
          <a:xfrm flipH="1">
            <a:off x="792000" y="2565360"/>
            <a:ext cx="1224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2124000" y="3284640"/>
            <a:ext cx="2881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re impacts that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ot be mitiga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ignific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169236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5003640" y="3716280"/>
            <a:ext cx="2376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7596360" y="2708280"/>
            <a:ext cx="936360" cy="649440"/>
          </a:xfrm>
          <a:prstGeom prst="rect">
            <a:avLst/>
          </a:prstGeom>
          <a:solidFill>
            <a:srgbClr val="6fd5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B 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0"/>
          <p:cNvSpPr/>
          <p:nvPr/>
        </p:nvSpPr>
        <p:spPr>
          <a:xfrm flipV="1">
            <a:off x="5003640" y="2997000"/>
            <a:ext cx="259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2"/>
          <p:cNvSpPr/>
          <p:nvPr/>
        </p:nvSpPr>
        <p:spPr>
          <a:xfrm>
            <a:off x="468360" y="4724280"/>
            <a:ext cx="8229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5308560" y="6093000"/>
            <a:ext cx="1871640" cy="631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3"/>
          <a:stretch/>
        </p:blipFill>
        <p:spPr>
          <a:xfrm>
            <a:off x="585720" y="5781600"/>
            <a:ext cx="2716200" cy="98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4"/>
          <a:stretch/>
        </p:blipFill>
        <p:spPr>
          <a:xfrm>
            <a:off x="2124000" y="4508640"/>
            <a:ext cx="4383000" cy="1272960"/>
          </a:xfrm>
          <a:prstGeom prst="rect">
            <a:avLst/>
          </a:prstGeom>
          <a:ln w="0">
            <a:noFill/>
          </a:ln>
        </p:spPr>
      </p:pic>
      <p:sp>
        <p:nvSpPr>
          <p:cNvPr id="282" name="Line 11"/>
          <p:cNvSpPr/>
          <p:nvPr/>
        </p:nvSpPr>
        <p:spPr>
          <a:xfrm>
            <a:off x="7488360" y="2060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7993080" y="1628640"/>
            <a:ext cx="1150920" cy="793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f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7777080" y="447840"/>
            <a:ext cx="1152720" cy="7934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f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7380360" y="83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3429000"/>
            <a:ext cx="1584360" cy="506520"/>
          </a:xfrm>
          <a:prstGeom prst="rect">
            <a:avLst/>
          </a:prstGeom>
          <a:solidFill>
            <a:srgbClr val="ec88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O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OT CER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7380360" y="3716280"/>
            <a:ext cx="1584360" cy="865080"/>
          </a:xfrm>
          <a:prstGeom prst="rect">
            <a:avLst/>
          </a:prstGeom>
          <a:solidFill>
            <a:srgbClr val="ec88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YES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NOT CER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D or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7596360" y="5084640"/>
            <a:ext cx="1152360" cy="7938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e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f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172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oles and responsibilities in A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209080" cy="846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8209080" cy="865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8210520" cy="66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95280" y="4076640"/>
            <a:ext cx="820908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395280" y="4941720"/>
            <a:ext cx="8207280" cy="70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95280" y="5805360"/>
            <a:ext cx="82090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BF18-1A49-42B0-9BBB-505A7153F5F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Škofljica Bypass 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Slika 7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5545080" cy="3755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324000" y="5286960"/>
            <a:ext cx="72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dvP4DF60E"/>
              </a:rPr>
              <a:t>Natura 2000 site Ljubljansko barje with Škofljica bypass alternatives (IRSNC Data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932440" y="2082600"/>
            <a:ext cx="310356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AdvP4DF60E"/>
              </a:rPr>
              <a:t>Natura 2000 Ljubljansko bar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AdvP4DF60E"/>
              </a:rPr>
              <a:t>13.560 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AdvP4DF60E"/>
              </a:rPr>
              <a:t>SI 5000014 Ljubljansko barje (S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AdvP4DF60E"/>
              </a:rPr>
              <a:t>SI3000271 Ljubljansko barje (S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AdvP4DF60E"/>
              </a:rPr>
              <a:t>Landscape park Ljubljansko bar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  <a:ea typeface="AdvP4DF60E"/>
              </a:rPr>
              <a:t>Bypass lengt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AdvP4DF60E"/>
              </a:rPr>
              <a:t>: 4,5 – 7,5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AdvP4DF60E"/>
              </a:rPr>
              <a:t>(depending on alterna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EU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grada številke diapoz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8B00-4A52-49A6-94AC-BA9AAD960D1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4363920" y="333360"/>
            <a:ext cx="4762440" cy="6203880"/>
          </a:xfrm>
          <a:prstGeom prst="rect">
            <a:avLst/>
          </a:prstGeom>
          <a:ln w="0">
            <a:noFill/>
          </a:ln>
        </p:spPr>
      </p:pic>
      <p:sp>
        <p:nvSpPr>
          <p:cNvPr id="299" name="Pravokotnik 5"/>
          <p:cNvSpPr/>
          <p:nvPr/>
        </p:nvSpPr>
        <p:spPr>
          <a:xfrm>
            <a:off x="108000" y="141300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c8c93"/>
                </a:solidFill>
                <a:latin typeface="Calibri"/>
              </a:rPr>
              <a:t>On the basis of reports in med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European Commission found out about the case and started an EU Pilot against Slovenia (EC, 2012) to get acquainted with procedure in greater detai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is the difference between both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ssessment studie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and why the second one had to be prepa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y was the alternative outside of the Natura 2000 site not chos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ich procedure (6(3) or 6(4) of Habitats Directive) has been used for this pl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European commission stated that for Škofljica bypass  plan the procedure 6(4) should be carried out rather than 6(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tional authorities informally stopped the plan after 8 years of prepa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lternative solutions are being looked for, as well as temporary solutions to reduce traffic j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Consideration of national and european legislation would lead to the same solution years ago, saving a lot of time and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3FB2-75E9-4D6C-80F4-EAF27C7E905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A558-31F6-45AE-A03D-9C8BB7A572F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nclusions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 –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57200" y="1341360"/>
            <a:ext cx="8002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atura 2000 does not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isab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developmen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such extent as perce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pert opinions with negative outcome for investors are very f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EA/EIA/AA system works well: no additional procedures needed because of AA, good overview over assessments, but high number of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cing to execute a plan or project on Natura 2000 by all means is not a wise decision. It is much better to follow the procedure according to legislation and leave any political or other interests a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rrogance, lack of knowledge and disrespecting of nature conservation leads to blockade of project, which is neither good nor effective from a development point of vie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 of the best instruments for achieving this goal is an 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ion of stakeholders in searching for the right solu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ANd9GcTrKs8ux5dAvT4dH90CN0eBj-6wRspPRv-H2cs7BpvCeNAzIpyQ"/>
          <p:cNvPicPr/>
          <p:nvPr/>
        </p:nvPicPr>
        <p:blipFill>
          <a:blip r:embed="rId2"/>
          <a:stretch/>
        </p:blipFill>
        <p:spPr>
          <a:xfrm>
            <a:off x="7236000" y="4724280"/>
            <a:ext cx="164448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508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he Institute of the Republic of Slovenia for Nature Con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he Institute of the Republic of Slovenia for Nature Conservation is a national expert instit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ur mission is to produce high quality scientific work to protect and conserve the natural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he work of IRSNC is based on 7 regional units that cover entire country and a central unit as a support and integration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6516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esna puščica s črticami 30"/>
          <p:cNvSpPr/>
          <p:nvPr/>
        </p:nvSpPr>
        <p:spPr>
          <a:xfrm rot="10165200">
            <a:off x="1692000" y="4941000"/>
            <a:ext cx="3487680" cy="360360"/>
          </a:xfrm>
          <a:custGeom>
            <a:avLst/>
            <a:gdLst/>
            <a:ahLst/>
            <a:rect l="l" t="t" r="r" b="b"/>
            <a:pathLst>
              <a:path w="3487737" h="360362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3307556" y="90091"/>
                </a:lnTo>
                <a:lnTo>
                  <a:pt x="3307556" y="0"/>
                </a:lnTo>
                <a:lnTo>
                  <a:pt x="3487737" y="180181"/>
                </a:lnTo>
                <a:lnTo>
                  <a:pt x="3307556" y="360362"/>
                </a:lnTo>
                <a:lnTo>
                  <a:pt x="3307556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8772-5149-412E-A964-F8B58A4130B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SEA, EIA and AA linkages in Slov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628640"/>
            <a:ext cx="1511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EA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195640" y="162864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IA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211640" y="1628640"/>
            <a:ext cx="1944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Habitats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372360" y="1628640"/>
            <a:ext cx="1944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Birds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68360" y="5445000"/>
            <a:ext cx="107964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539640" y="5445000"/>
            <a:ext cx="107964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8"/>
          <p:cNvSpPr/>
          <p:nvPr/>
        </p:nvSpPr>
        <p:spPr>
          <a:xfrm>
            <a:off x="539640" y="4437000"/>
            <a:ext cx="1081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(pl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2268360" y="4437000"/>
            <a:ext cx="10814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(proj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0"/>
          <p:cNvSpPr/>
          <p:nvPr/>
        </p:nvSpPr>
        <p:spPr>
          <a:xfrm>
            <a:off x="2771640" y="386064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1"/>
          <p:cNvSpPr/>
          <p:nvPr/>
        </p:nvSpPr>
        <p:spPr>
          <a:xfrm>
            <a:off x="1042920" y="378936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2"/>
          <p:cNvSpPr/>
          <p:nvPr/>
        </p:nvSpPr>
        <p:spPr>
          <a:xfrm>
            <a:off x="2843280" y="220500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3"/>
          <p:cNvSpPr/>
          <p:nvPr/>
        </p:nvSpPr>
        <p:spPr>
          <a:xfrm>
            <a:off x="900000" y="2708280"/>
            <a:ext cx="2305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4"/>
          <p:cNvSpPr/>
          <p:nvPr/>
        </p:nvSpPr>
        <p:spPr>
          <a:xfrm>
            <a:off x="1042920" y="220500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4"/>
          <p:cNvSpPr/>
          <p:nvPr/>
        </p:nvSpPr>
        <p:spPr>
          <a:xfrm>
            <a:off x="5219640" y="4437000"/>
            <a:ext cx="180036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(plans&amp; proj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5"/>
          <p:cNvSpPr/>
          <p:nvPr/>
        </p:nvSpPr>
        <p:spPr>
          <a:xfrm>
            <a:off x="6084720" y="393372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6"/>
          <p:cNvSpPr/>
          <p:nvPr/>
        </p:nvSpPr>
        <p:spPr>
          <a:xfrm>
            <a:off x="5076720" y="2781360"/>
            <a:ext cx="230508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7"/>
          <p:cNvSpPr/>
          <p:nvPr/>
        </p:nvSpPr>
        <p:spPr>
          <a:xfrm>
            <a:off x="5076720" y="220500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8"/>
          <p:cNvSpPr/>
          <p:nvPr/>
        </p:nvSpPr>
        <p:spPr>
          <a:xfrm>
            <a:off x="7164360" y="220500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1"/>
          <p:cNvSpPr/>
          <p:nvPr/>
        </p:nvSpPr>
        <p:spPr>
          <a:xfrm>
            <a:off x="7524720" y="328464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2"/>
          <p:cNvSpPr/>
          <p:nvPr/>
        </p:nvSpPr>
        <p:spPr>
          <a:xfrm>
            <a:off x="8028000" y="3068640"/>
            <a:ext cx="7207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on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3"/>
          <p:cNvSpPr/>
          <p:nvPr/>
        </p:nvSpPr>
        <p:spPr>
          <a:xfrm>
            <a:off x="8028000" y="3645000"/>
            <a:ext cx="720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4"/>
          <p:cNvSpPr/>
          <p:nvPr/>
        </p:nvSpPr>
        <p:spPr>
          <a:xfrm>
            <a:off x="8101080" y="4437000"/>
            <a:ext cx="7207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er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5"/>
          <p:cNvSpPr/>
          <p:nvPr/>
        </p:nvSpPr>
        <p:spPr>
          <a:xfrm>
            <a:off x="8101080" y="5013360"/>
            <a:ext cx="720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esna puščica s črticami 2"/>
          <p:cNvSpPr/>
          <p:nvPr/>
        </p:nvSpPr>
        <p:spPr>
          <a:xfrm rot="10100400">
            <a:off x="3492000" y="5373360"/>
            <a:ext cx="1716120" cy="360360"/>
          </a:xfrm>
          <a:custGeom>
            <a:avLst/>
            <a:gdLst/>
            <a:ahLst/>
            <a:rect l="l" t="t" r="r" b="b"/>
            <a:pathLst>
              <a:path w="1716088" h="360363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1535907" y="90091"/>
                </a:lnTo>
                <a:lnTo>
                  <a:pt x="1535907" y="0"/>
                </a:lnTo>
                <a:lnTo>
                  <a:pt x="1716088" y="180182"/>
                </a:lnTo>
                <a:lnTo>
                  <a:pt x="1535907" y="360363"/>
                </a:lnTo>
                <a:lnTo>
                  <a:pt x="1535907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esna puščica s črticami 28"/>
          <p:cNvSpPr/>
          <p:nvPr/>
        </p:nvSpPr>
        <p:spPr>
          <a:xfrm rot="20935800">
            <a:off x="7093080" y="4869000"/>
            <a:ext cx="763560" cy="360360"/>
          </a:xfrm>
          <a:custGeom>
            <a:avLst/>
            <a:gdLst/>
            <a:ahLst/>
            <a:rect l="l" t="t" r="r" b="b"/>
            <a:pathLst>
              <a:path w="763588" h="360363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583407" y="90091"/>
                </a:lnTo>
                <a:lnTo>
                  <a:pt x="583407" y="0"/>
                </a:lnTo>
                <a:lnTo>
                  <a:pt x="763588" y="180182"/>
                </a:lnTo>
                <a:lnTo>
                  <a:pt x="583407" y="360363"/>
                </a:lnTo>
                <a:lnTo>
                  <a:pt x="583407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esna puščica s črticami 29"/>
          <p:cNvSpPr/>
          <p:nvPr/>
        </p:nvSpPr>
        <p:spPr>
          <a:xfrm rot="19480200">
            <a:off x="6948000" y="4005000"/>
            <a:ext cx="1003320" cy="360360"/>
          </a:xfrm>
          <a:custGeom>
            <a:avLst/>
            <a:gdLst/>
            <a:ahLst/>
            <a:rect l="l" t="t" r="r" b="b"/>
            <a:pathLst>
              <a:path w="1003300" h="360362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823119" y="90091"/>
                </a:lnTo>
                <a:lnTo>
                  <a:pt x="823119" y="0"/>
                </a:lnTo>
                <a:lnTo>
                  <a:pt x="1003300" y="180181"/>
                </a:lnTo>
                <a:lnTo>
                  <a:pt x="823119" y="360362"/>
                </a:lnTo>
                <a:lnTo>
                  <a:pt x="823119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ravokotnik 3"/>
          <p:cNvSpPr/>
          <p:nvPr/>
        </p:nvSpPr>
        <p:spPr>
          <a:xfrm>
            <a:off x="4788000" y="6154560"/>
            <a:ext cx="3529080" cy="503280"/>
          </a:xfrm>
          <a:prstGeom prst="rect">
            <a:avLst/>
          </a:prstGeom>
          <a:solidFill>
            <a:srgbClr val="4597a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No extra procedures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3"/>
          <p:cNvSpPr/>
          <p:nvPr/>
        </p:nvSpPr>
        <p:spPr>
          <a:xfrm>
            <a:off x="179280" y="4724280"/>
            <a:ext cx="3529080" cy="194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30200" y="126828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lann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grada vsebine 2"/>
          <p:cNvSpPr/>
          <p:nvPr/>
        </p:nvSpPr>
        <p:spPr>
          <a:xfrm>
            <a:off x="5078520" y="1268280"/>
            <a:ext cx="332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jec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ravokotnik 9"/>
          <p:cNvSpPr/>
          <p:nvPr/>
        </p:nvSpPr>
        <p:spPr>
          <a:xfrm>
            <a:off x="1252440" y="1916280"/>
            <a:ext cx="1295640" cy="43308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ravokotnik 10"/>
          <p:cNvSpPr/>
          <p:nvPr/>
        </p:nvSpPr>
        <p:spPr>
          <a:xfrm>
            <a:off x="6060960" y="1911240"/>
            <a:ext cx="1295640" cy="433440"/>
          </a:xfrm>
          <a:prstGeom prst="rect">
            <a:avLst/>
          </a:prstGeom>
          <a:solidFill>
            <a:srgbClr val="72bf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 rot="6553800">
            <a:off x="1079640" y="2642400"/>
            <a:ext cx="719280" cy="215640"/>
          </a:xfrm>
          <a:prstGeom prst="rightArrow">
            <a:avLst>
              <a:gd name="adj1" fmla="val 50000"/>
              <a:gd name="adj2" fmla="val 83389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4083600">
            <a:off x="2088000" y="260856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 rot="6553800">
            <a:off x="5899320" y="2785320"/>
            <a:ext cx="719280" cy="215640"/>
          </a:xfrm>
          <a:prstGeom prst="rightArrow">
            <a:avLst>
              <a:gd name="adj1" fmla="val 50000"/>
              <a:gd name="adj2" fmla="val 83389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 rot="3925200">
            <a:off x="6850440" y="267732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avokotnik 15"/>
          <p:cNvSpPr/>
          <p:nvPr/>
        </p:nvSpPr>
        <p:spPr>
          <a:xfrm>
            <a:off x="5541840" y="5877000"/>
            <a:ext cx="2421000" cy="288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Building per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041800" y="3828960"/>
            <a:ext cx="107964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268360" y="3716280"/>
            <a:ext cx="107964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2268360" y="3252960"/>
            <a:ext cx="108144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5056200" y="3397320"/>
            <a:ext cx="108108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2"/>
          <p:cNvSpPr/>
          <p:nvPr/>
        </p:nvSpPr>
        <p:spPr>
          <a:xfrm>
            <a:off x="7404120" y="3284640"/>
            <a:ext cx="72072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on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3"/>
          <p:cNvSpPr/>
          <p:nvPr/>
        </p:nvSpPr>
        <p:spPr>
          <a:xfrm>
            <a:off x="7380360" y="3860640"/>
            <a:ext cx="720720" cy="2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ravokotnik 25"/>
          <p:cNvSpPr/>
          <p:nvPr/>
        </p:nvSpPr>
        <p:spPr>
          <a:xfrm>
            <a:off x="690480" y="6091200"/>
            <a:ext cx="2419560" cy="2890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Confirmation of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2"/>
          <p:cNvSpPr/>
          <p:nvPr/>
        </p:nvSpPr>
        <p:spPr>
          <a:xfrm>
            <a:off x="324000" y="3213000"/>
            <a:ext cx="129852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con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guideline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5016600" y="4981680"/>
            <a:ext cx="107928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Pre-procedure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(scree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5029200" y="4549680"/>
            <a:ext cx="108108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Obligator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9"/>
          <p:cNvSpPr/>
          <p:nvPr/>
        </p:nvSpPr>
        <p:spPr>
          <a:xfrm>
            <a:off x="5003640" y="5397480"/>
            <a:ext cx="108108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Not listed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avokotnik 27"/>
          <p:cNvSpPr/>
          <p:nvPr/>
        </p:nvSpPr>
        <p:spPr>
          <a:xfrm>
            <a:off x="4211640" y="6335640"/>
            <a:ext cx="45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ree on environmental encroachments that require environmental impact assess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 rot="18892800">
            <a:off x="5932080" y="4924080"/>
            <a:ext cx="1622520" cy="215640"/>
          </a:xfrm>
          <a:prstGeom prst="rightArrow">
            <a:avLst>
              <a:gd name="adj1" fmla="val 50000"/>
              <a:gd name="adj2" fmla="val 8339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3924360" y="0"/>
            <a:ext cx="45036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ravokotnik 4"/>
          <p:cNvSpPr/>
          <p:nvPr/>
        </p:nvSpPr>
        <p:spPr>
          <a:xfrm>
            <a:off x="684360" y="3108240"/>
            <a:ext cx="343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ree on environmental encroachments that require environmental impact assess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734-815D-4C50-883F-87EEBDBE815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Appropriate assessment on plann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419640" cy="2173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3"/>
          <a:stretch/>
        </p:blipFill>
        <p:spPr>
          <a:xfrm>
            <a:off x="4427640" y="1457280"/>
            <a:ext cx="3435120" cy="21114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5"/>
          <p:cNvSpPr/>
          <p:nvPr/>
        </p:nvSpPr>
        <p:spPr>
          <a:xfrm>
            <a:off x="476280" y="35686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tura 2000 sites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otected areas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4"/>
          <a:stretch/>
        </p:blipFill>
        <p:spPr>
          <a:xfrm>
            <a:off x="3995640" y="4076640"/>
            <a:ext cx="4064040" cy="2452680"/>
          </a:xfrm>
          <a:prstGeom prst="rect">
            <a:avLst/>
          </a:prstGeom>
          <a:ln w="0">
            <a:noFill/>
          </a:ln>
        </p:spPr>
      </p:pic>
      <p:sp>
        <p:nvSpPr>
          <p:cNvPr id="156" name="Pravokotnik 16"/>
          <p:cNvSpPr/>
          <p:nvPr/>
        </p:nvSpPr>
        <p:spPr>
          <a:xfrm>
            <a:off x="453960" y="4713120"/>
            <a:ext cx="341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AA in SEA: For every plan or change of plan (or programme), national or local,  that could have significant impacts on Natura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avokotnik 8"/>
          <p:cNvSpPr/>
          <p:nvPr/>
        </p:nvSpPr>
        <p:spPr>
          <a:xfrm>
            <a:off x="684360" y="5877000"/>
            <a:ext cx="316692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ules on appropriat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5B42-EBCF-4821-B9B2-9457414BE634}" type="slidenum">
              <a:rPr b="0" lang="sl-SI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ture Conservation Guidelines and following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012000" y="1600200"/>
            <a:ext cx="28080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o plan can be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pprove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ithout a positive NC opinion or a note from IRSNC that NC guidelines are not requi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516720" y="1700280"/>
            <a:ext cx="201600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hecking if p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ufficiently inclu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C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= NC opi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629080" y="2203560"/>
            <a:ext cx="718920" cy="215640"/>
          </a:xfrm>
          <a:prstGeom prst="rightArrow">
            <a:avLst>
              <a:gd name="adj1" fmla="val 50000"/>
              <a:gd name="adj2" fmla="val 8334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580000" y="2203560"/>
            <a:ext cx="719280" cy="215640"/>
          </a:xfrm>
          <a:prstGeom prst="rightArrow">
            <a:avLst>
              <a:gd name="adj1" fmla="val 50000"/>
              <a:gd name="adj2" fmla="val 83389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246708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3203640" y="3213000"/>
            <a:ext cx="2477880" cy="3384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612720" y="1700280"/>
            <a:ext cx="18734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C guidelin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 proposed pla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492360" y="1700280"/>
            <a:ext cx="18734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gration of N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uidelines i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proposed pla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68360" y="5958000"/>
            <a:ext cx="2592360" cy="784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2592360" cy="1666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ANd9GcRmPvNOoM0V4PWFGpjSYDBgszlzarS1n1xEehHAe9pOovn2tDhxYA"/>
          <p:cNvPicPr/>
          <p:nvPr/>
        </p:nvPicPr>
        <p:blipFill>
          <a:blip r:embed="rId3"/>
          <a:stretch/>
        </p:blipFill>
        <p:spPr>
          <a:xfrm>
            <a:off x="468360" y="2709720"/>
            <a:ext cx="2592360" cy="172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ANd9GcRJ67Iy9bIJMI2wSKEE-8rv1X1rRi8qyo5S7cu6wgdQNdx4b256"/>
          <p:cNvPicPr/>
          <p:nvPr/>
        </p:nvPicPr>
        <p:blipFill>
          <a:blip r:embed="rId4"/>
          <a:stretch/>
        </p:blipFill>
        <p:spPr>
          <a:xfrm>
            <a:off x="468360" y="134136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27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 of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341360"/>
          <a:ext cx="7920000" cy="5400720"/>
        </p:xfrm>
        <a:graphic>
          <a:graphicData uri="http://schemas.openxmlformats.org/drawingml/2006/table">
            <a:tbl>
              <a:tblPr/>
              <a:tblGrid>
                <a:gridCol w="2592360"/>
                <a:gridCol w="5327640"/>
              </a:tblGrid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tura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delines, recomme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A Ljubljansko bar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 should be done outside of breeding, nesting or wintering periods for birds, that is from June to Octob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cted ar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mes, conditions, guidelines, recomme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27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P Ljubljansko bar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is forbidden to change resting or breeding parts of habi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s should be located outside of breeding part of a habitat, that is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uable natural 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delines, recomme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V Iška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pollution should be avoided with appropriate measures, such as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as of ecological impor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delines, recomme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PO Big carnivore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ter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ins should be protected from bea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Picture 38" descr=""/>
          <p:cNvPicPr/>
          <p:nvPr/>
        </p:nvPicPr>
        <p:blipFill>
          <a:blip r:embed="rId5"/>
          <a:stretch/>
        </p:blipFill>
        <p:spPr>
          <a:xfrm>
            <a:off x="7524720" y="5634000"/>
            <a:ext cx="1258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2:15:39Z</dcterms:created>
  <dc:creator>tklemencic</dc:creator>
  <dc:description/>
  <dc:language>en-US</dc:language>
  <cp:lastModifiedBy>Tina</cp:lastModifiedBy>
  <cp:lastPrinted>2014-10-30T11:38:22Z</cp:lastPrinted>
  <dcterms:modified xsi:type="dcterms:W3CDTF">2014-10-31T04:57:03Z</dcterms:modified>
  <cp:revision>58</cp:revision>
  <dc:subject/>
  <dc:title>Diapozitiv 1</dc:title>
</cp:coreProperties>
</file>