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wmf" ContentType="image/x-wmf"/>
  <Override PartName="/ppt/media/image9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8.wmf" ContentType="image/x-wmf"/>
  <Override PartName="/ppt/media/image6.wmf" ContentType="image/x-wmf"/>
  <Override PartName="/ppt/media/image11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11F-84D8-4F70-B4D0-E22658C1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728-6789-4EB2-8BD3-B6E3293F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2E5-1129-4EF2-894C-DB7E9A4F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51D-B68D-40A0-A6FC-707C188C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18C-6C1F-41FE-85A7-4730ED70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347-B103-4EBF-AF23-79F7D8A7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6C4-E84B-469D-9F63-E494D08F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5D3-488E-4023-8E01-1AD25FEF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285-14E8-4F8E-A647-0B6A0A0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57A-6F5C-4D43-B800-D4A1E9E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BAF-6682-4FF1-A4C9-17EDFE9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810-E19D-4DE8-806A-1480F94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A4BB-6315-4AF8-AD62-EFE55D7CF1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785600"/>
            <a:ext cx="6120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CRAN Regional Training Workshop on linkages between Appropriate Assessment </a:t>
            </a:r>
            <a:r>
              <a:rPr b="1" lang="cs-CZ" sz="3600" spc="-1" strike="noStrike">
                <a:solidFill>
                  <a:srgbClr val="000000"/>
                </a:solidFill>
                <a:latin typeface="Arial Narrow"/>
              </a:rPr>
              <a:t>(AA) </a:t>
            </a: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and SEA/EIA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Narrow"/>
              </a:rPr>
              <a:t>Zagreb, Croat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October 30 – 31, 201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Project is funded by the European Un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fbeelding 32" descr="jaune.jpg"/>
          <p:cNvPicPr/>
          <p:nvPr/>
        </p:nvPicPr>
        <p:blipFill>
          <a:blip r:embed="rId1"/>
          <a:stretch/>
        </p:blipFill>
        <p:spPr>
          <a:xfrm>
            <a:off x="395280" y="6308640"/>
            <a:ext cx="590400" cy="3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0" y="380160"/>
            <a:ext cx="339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fbeelding 33" descr="HD_psc 4c CMYK"/>
          <p:cNvPicPr/>
          <p:nvPr/>
        </p:nvPicPr>
        <p:blipFill>
          <a:blip r:embed="rId2"/>
          <a:stretch/>
        </p:blipFill>
        <p:spPr>
          <a:xfrm>
            <a:off x="4643280" y="6308640"/>
            <a:ext cx="75276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83120" y="6381000"/>
            <a:ext cx="41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 project implemented by Human Dynamics Consort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4787640" cy="5461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" descr=""/>
          <p:cNvPicPr/>
          <p:nvPr/>
        </p:nvPicPr>
        <p:blipFill>
          <a:blip r:embed="rId4"/>
          <a:stretch/>
        </p:blipFill>
        <p:spPr>
          <a:xfrm>
            <a:off x="900000" y="333360"/>
            <a:ext cx="1008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0EA-569D-422D-8D86-8AAF6F13F8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theory of EU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J EU rulings interpret the Directives and are legally binding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e passed they have to be respect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EU MS cour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national legislation contradicts CJ EU ruling it must be avoided or amend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J EU rulings – published at Curia web p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SimSun"/>
              </a:rPr>
              <a:t>ttp://curia.europa.eu/juris/recherche.jsf?language=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2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380-1C95-4426-9500-D2FA2BA363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theory of EU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uling has its own code (e.g. C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02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C-521/12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now, 40 rulings on Art. 6 passed from 1997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1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661-E6B8-4FA0-B985-3E61B4C54E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theory of EU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y are to be taken into account when preparing legisl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&amp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tional system of 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 booklet with them to be issued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84140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375-F3D5-4611-A0CA-D24AE7DFDD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 – when is it applic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ew EU MS have to have Natura 2000 proposed till their acces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A cannot apply to all sites immediate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E47-A5A1-4A29-BEA2-15C7198BA7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 – when is it applic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SP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irds Directiv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classified by the date of accession (+ notified to the EC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lassified, they are subject to A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medi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rsuant to Art. 7 HabD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ligations arising under Article 6 (2), (3) and (4) of this Directive shall replace any obligations arising under the first sentence of Article 4 (4) of Directive 79/409/EEC in respect of areas classified pursuant to Art. 4 (1) …and Art. 4 (2) thereof, as from the date of …classification … under Directive 79/409/EEC…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A9C-12F6-473E-8E58-6A0C3C14CA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 – when is it applic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) pSCI, SCI, SA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ngle site – three acronym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(5)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As soon as a site is placed on the list referred to in the third subparagraph of paragraph 2 it shall be subject to Article 6 (2), (3) and (4)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872676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A4B-2EA9-4B40-9929-DB0A13903A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 – when is it applic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d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tection of pSCI possible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2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2676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4ED-1F69-4B97-9777-3FDBEAD715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 – when is it applic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rulings on this topi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ex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117/03, C-244/05, C-491/08, C-43/1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psi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/project permitted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cc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requi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748-03AE-46A7-8807-C56BDEBC6F9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 – when is it applic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of rulings on this topi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ex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117/03, C-244/05, C-491/08, C-43/1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psi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/projec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yet permit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not a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ecological characteristics of the site” – otherwi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not be permit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rogation procedure of Art. 6(4) is possible →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orter t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 is the better for the inves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F4C-3C70-4E5C-A260-36E531A3786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2676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46C-3678-4FEC-83CA-8392A433C7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 of Appropriat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97F-6781-43BD-8124-033CD9B116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ow – Art. 6(3)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ntences on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tence uses different termi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each word has its own factual and legal mea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these 2 sentences are very difficult to understand and interpret correct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 feasible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17F-6EA0-4EA8-874A-C67C9AAC25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No. 1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n or proj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 directly connect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essary to the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ite bu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ificant effect there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ith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comb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oth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ns or pro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jec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ropriate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lications for the site in view of the site's conservation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C0F-5065-4CB8-8475-BB0E9887E97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ny, not just plans &amp; projects from any lists like in EIA/SE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 connect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anag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management parts of management plan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essary to the manag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nagement provisions and conservation meas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ily management plans as a who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213-62D5-44CD-8CCC-903C335A957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anagement plans for National Parks in the Czech Republ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ach of th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sec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on felling trees for income in the buffer zone: this part of the MP does not correspond to the definitions above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 be subject to 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84920" y="2276640"/>
            <a:ext cx="3908160" cy="24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F61-0100-46D0-81B2-37034BB5C1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ha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j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kelih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a certainty, triggers the 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ificant effect on the si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ffects count; what is “significant” -  that is the main point of AA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6FB-BA47-41D1-B01A-2E37A9CEBE5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comb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ery importa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are obliged to ass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ergic plans &amp; proj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ject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an option (and no derogation possible!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B41-0D58-4C56-B560-2DFB25CE65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ropriate assess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ppropriate to the size of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d likelihood of its impa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≠ standardized procedure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ways case-by-case appro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propriate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lications for the site in view of the site's conservation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ference level for the assessment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rvation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it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just its current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34A-3ABB-4C95-A748-6D3FCC71B0C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30364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777744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76D-9F6E-42F6-BB18-58357704C39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2376360" cy="1860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00000" y="3573360"/>
            <a:ext cx="7301160" cy="28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272-7832-4577-BE35-5C08B202FFF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the sentence No. 1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measur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su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n/project likely to have significant impact on the si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subject to A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 is undertaken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e conservation objec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CAF-01AF-48F9-A430-D8D15757A8B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iological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essm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mpacts of plans &amp; projects on natural phenomena quite comm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ous types exist at national lev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 bu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y two of them codified by EU law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A/SEA (EIA and SEA Directiv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 (Habitats Directiv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C5E-31F5-4CBA-9FD7-3A995C0735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nce No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ligh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 of the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plications for the site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bject to the provisions of paragraph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etent national author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a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plan or proj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 after having ascerta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will not adversely a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grity of the s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rned and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f appropr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fter having obtained the opinion of the general public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753-D37A-4AD1-AAF9-06EF570C3F4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conclusions of the assess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= reference to AA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sent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subject to the provisions of paragraph 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= reference to derogation procedure of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6(4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competent national author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= authorities in charge of AA, i.e., not only central ones (national = stat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148284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ture protection authorities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3C5-F43D-4C86-9D33-FE50F4FDA75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agree only after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an to permit the plan/project unless the further conditions are m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having ascertain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o scientific doubt remains on lack of significant impacts (ruling C-127/02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C2E-4319-43A5-99B6-94FEAF34F34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will not adversely affect the integrity of the sit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onclusion of AA: adverse impact on site integrity yes – n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lack or wh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f appropr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ublic opinion not obligatory (compare EIA/SE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B21-63C7-451F-8AA0-0F77D1F429E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the sentence No. 2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/proje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not be permit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ientific doubt rem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t will adversely affect the site integr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of the publ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obligat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E3FA-9523-40CF-B228-50462893C4F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No. 1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&amp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in spite of a negative assessment of the implications for the si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absence of alternative sol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plan or proj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vertheless be carried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imperative reasons of overriding public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cluding those of a social or economic nature, the Memb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ensatory 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ess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the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verall coherence of Natura 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 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in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of the compensatory measures adopted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3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91A-F2CD-4F12-A05A-70E5FF6CE46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absence of alternative solution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alternatives must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e checked before the procedure may go 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nly alternatives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ignificant impact cou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C2B-65FD-40ED-9792-0155A6E151C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 u="sng">
                <a:solidFill>
                  <a:srgbClr val="000000"/>
                </a:solidFill>
                <a:uFillTx/>
                <a:latin typeface="Arial"/>
              </a:rPr>
              <a:t>must nevertheless be carried out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800" spc="-1" strike="noStrike" u="sng">
                <a:solidFill>
                  <a:srgbClr val="000000"/>
                </a:solidFill>
                <a:uFillTx/>
                <a:latin typeface="Arial"/>
              </a:rPr>
              <a:t>for imperative reasons of overriding public interest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= plans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  <a:ea typeface="SimSun"/>
              </a:rPr>
              <a:t>&amp;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  <a:ea typeface="Arial"/>
              </a:rPr>
              <a:t> project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must have all these attributes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- be publ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- be imperat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- interest in their implementation must be overriding compared to interest on maintenance of given N2K site(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EF1-5DCB-4266-ABF3-BD2057ECEC0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7659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110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Luzulo-Fagetu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ech fore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2 N2K si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a riphae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N2K 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122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695760"/>
            <a:ext cx="4284720" cy="3162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3203640" y="4508280"/>
            <a:ext cx="2881080" cy="649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D81-55AA-4123-8AD9-2C71B8F03A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= oblig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ensatory 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cess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verall coherence of Natura 2000 is 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= without compensatory measur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6(4) derogation cannot be permit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AD4-9032-4894-B58A-2EB54B5F2D8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A/SEA </a:t>
            </a:r>
            <a:r>
              <a:rPr b="0" i="1" lang="cs-CZ" sz="4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A/SEA assesses quantitatively impacts of plans/projects on natural phenomen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aking into accou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likely impac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: combination of biological assessment and decision-making pro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dmissibility of plan &amp; proj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3A3-F6BC-4200-BB22-B62F37A11D2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ensatory measures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C guidance on Art. 6(4)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ke for like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t in reality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y target features are not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mpensable at all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559240" cy="37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181-1811-4151-8B37-8E375DBB465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ll in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obligatory reporting on compensatory measures to the E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3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1C0-93DD-4825-9ACF-572D4BF284E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the sentence No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onent must give proof of absence of alterna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an/project must be publ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re must be imperative reasons of overrriding public intere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pensatory measures „like for like“ must be feasible, implemented and function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port to EC must be s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C93-53BA-4A38-8CAA-322B4CED5F6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nce No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site concerned host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ority natural habitat type and/or a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ority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only considerations which may be raised are tho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ng to human heal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blic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beneficial consequences of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ry importance for the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rther to an opinion from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Com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other imperative reasons of overriding public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E20-E346-4963-B542-6817444C8E3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ority natural habitat type and/or a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ority speci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those marked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in the annex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ideration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ng to human heal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blic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beneficial consequences of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ary importance for the environm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rare 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2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21F-1980-4E5D-8E41-B2CA07EAA7B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ther imperative reasons of overriding public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e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only after having obtain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opinion from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Commissi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lengthy busines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83D-9499-475E-AC08-87D1B750A70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6(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-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the sentence N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or sites with priority target features, acceptable public interest can only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eal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lic safety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cial consequences of primary importance for the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for any other reason, prior opinion of the EC is obligato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CF2-B1B2-424D-A288-25E26A3048B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 of 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6(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nd 6(4)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hese 5 sentences are useful to assort into 4 stages of the proc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4EA-9582-4017-89F8-8733B15D2B7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 of 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. 6(3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. Screening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likelihood of significant effect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?  – if yes, th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I. Main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= proper Appropriate Assessment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gnificant effect on site integrity of particular sites likely? - if yes, plan/project must be stopp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A96-4C0B-4025-826E-546F4ACFAFE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es of 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t. 6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/projects stopped due to significant impact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II. Assessment of alternative sol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exist, plan/project must be stopp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V. IROPI test and compensatory meas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69F-7940-4175-BEDC-FBDE7ED673F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A/SEA </a:t>
            </a:r>
            <a:r>
              <a:rPr b="0" i="1" lang="cs-CZ" sz="4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much bigger responsibility than the EIA/SE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ir conclusion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 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both N2K sites as well a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n the gi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or biased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leads to eith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versible destruction of natural phenomena, 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ing” of (often large) development projec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y right execution of AA i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D27-F587-44A8-9A7A-26D17946FA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gisl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ackground for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ntences of Art. 6(3) HabDi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entences of Art. 6(4) HabDir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6(3) deals with the assessment proced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6(4) deals with derogations from that proced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94AF-AC36-4052-AE03-E316FED473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gisl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ackground for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rt. 6 HabDir the only source of instructions  for AA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504B-E58D-4361-9024-D29A836944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gisl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ackground for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rt. 6 HabDir the only source of instructions  for AA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it is 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lings of the Court of Justice of the E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ment and interpret Art. 6 provis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92B-E070-4385-81CF-BBF338017C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theory o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U law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legislation: the Trea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legislatio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oucil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v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ouncil and Parliament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EC or Council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J EU ruling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4A3B-D81E-4EBB-8D88-B4F3FAA42C5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Roth</cp:lastModifiedBy>
  <cp:lastPrinted>2004-11-17T18:27:25Z</cp:lastPrinted>
  <dcterms:modified xsi:type="dcterms:W3CDTF">2014-10-29T20:40:09Z</dcterms:modified>
  <cp:revision>212</cp:revision>
  <dc:subject/>
  <dc:title>PowerPoint Presentation</dc:title>
</cp:coreProperties>
</file>