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wmf" ContentType="image/x-wmf"/>
  <Override PartName="/ppt/media/image9.png" ContentType="image/png"/>
  <Override PartName="/ppt/media/image12.jpeg" ContentType="image/jpeg"/>
  <Override PartName="/ppt/media/image8.wmf" ContentType="image/x-wmf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-360" y="-7983360"/>
            <a:ext cx="360" cy="175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7216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219400" y="777960"/>
            <a:ext cx="2662200" cy="383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540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993600" y="777960"/>
            <a:ext cx="5113440" cy="383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7360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993600" y="777960"/>
            <a:ext cx="5113440" cy="383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7360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993600" y="777960"/>
            <a:ext cx="5113440" cy="383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7360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1A038-90B9-480D-8215-7AC0CB05B5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659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6680"/>
            <a:ext cx="77659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7A692-FC7D-477E-A3A4-A0E115BEB8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668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240" y="412668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47D7C-5D4C-4273-8D16-21DFB9EE64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0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1640" y="1980720"/>
            <a:ext cx="2500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7840" y="1980720"/>
            <a:ext cx="2500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6680"/>
            <a:ext cx="2500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1640" y="4126680"/>
            <a:ext cx="2500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7840" y="4126680"/>
            <a:ext cx="2500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AC304-252F-4B96-B25E-0D4DCCD0B07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65920" cy="41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83B20-DCF5-4749-9DB5-7AEF7CD6C7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6592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60ED5-A4B9-4F45-A091-B6C82D290D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1D81C-08D8-4708-84FD-57071F557B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23F67-231C-4C92-B2A8-57089C5A2A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65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A1C8F-9312-4596-B3D0-A97ADC962C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668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653FB-C2F4-4D11-B663-7513D5F81D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240" y="412668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51036-3A4B-4C50-A19E-7FA307B6E5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6680"/>
            <a:ext cx="77659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22F6C-F040-482E-84D8-B83B0B8D86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b21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6592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248520"/>
            <a:ext cx="19033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8520"/>
            <a:ext cx="28940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FFFF71-CD13-414B-8E15-FC46385FD98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b21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63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47640" y="1785600"/>
            <a:ext cx="612000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 Narrow"/>
              </a:rPr>
              <a:t>Example of 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AA</a:t>
            </a:r>
            <a:r>
              <a:rPr b="1" lang="cs-CZ" sz="3600" spc="-1" strike="noStrike">
                <a:solidFill>
                  <a:srgbClr val="000000"/>
                </a:solidFill>
                <a:latin typeface="Arial Narrow"/>
              </a:rPr>
              <a:t>: motorway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 in the </a:t>
            </a:r>
            <a:r>
              <a:rPr b="1" lang="cs-CZ" sz="3600" spc="-1" strike="noStrike">
                <a:solidFill>
                  <a:srgbClr val="000000"/>
                </a:solidFill>
                <a:latin typeface="Arial Narrow"/>
              </a:rPr>
              <a:t>Beskydy Region, 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Czech Republic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7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SimSun"/>
              </a:rPr>
              <a:t>Petr Roth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This Project is funded by the European Union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Afbeelding 32" descr="jaune.jpg"/>
          <p:cNvPicPr/>
          <p:nvPr/>
        </p:nvPicPr>
        <p:blipFill>
          <a:blip r:embed="rId1"/>
          <a:stretch/>
        </p:blipFill>
        <p:spPr>
          <a:xfrm>
            <a:off x="395280" y="6308640"/>
            <a:ext cx="590400" cy="3812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440" y="380160"/>
            <a:ext cx="339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            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             </a:t>
            </a:r>
            <a:r>
              <a:rPr b="0" lang="cs-CZ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Afbeelding 33" descr="HD_psc 4c CMYK"/>
          <p:cNvPicPr/>
          <p:nvPr/>
        </p:nvPicPr>
        <p:blipFill>
          <a:blip r:embed="rId2"/>
          <a:stretch/>
        </p:blipFill>
        <p:spPr>
          <a:xfrm>
            <a:off x="4643280" y="6308640"/>
            <a:ext cx="752760" cy="3524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983120" y="6381000"/>
            <a:ext cx="416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A project implemented by Human Dynamics Consortiu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Picture 1" descr=""/>
          <p:cNvPicPr/>
          <p:nvPr/>
        </p:nvPicPr>
        <p:blipFill>
          <a:blip r:embed="rId3"/>
          <a:stretch/>
        </p:blipFill>
        <p:spPr>
          <a:xfrm>
            <a:off x="3419640" y="620640"/>
            <a:ext cx="4787640" cy="546120"/>
          </a:xfrm>
          <a:prstGeom prst="rect">
            <a:avLst/>
          </a:prstGeom>
          <a:ln w="0">
            <a:noFill/>
          </a:ln>
        </p:spPr>
      </p:pic>
      <p:pic>
        <p:nvPicPr>
          <p:cNvPr id="55" name="Obrázek 2" descr=""/>
          <p:cNvPicPr/>
          <p:nvPr/>
        </p:nvPicPr>
        <p:blipFill>
          <a:blip r:embed="rId4"/>
          <a:stretch/>
        </p:blipFill>
        <p:spPr>
          <a:xfrm>
            <a:off x="900000" y="333360"/>
            <a:ext cx="1008000" cy="90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8EDB5-1B56-4D71-9B70-B49F0B17815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b21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659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Which target features may be impac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483920"/>
            <a:ext cx="7765920" cy="46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 Narrow"/>
              </a:rPr>
              <a:t>SCI Beskyd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0" y="2708280"/>
            <a:ext cx="9434520" cy="23241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284720" y="4076640"/>
            <a:ext cx="1079280" cy="43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356000" y="3573360"/>
            <a:ext cx="1584360" cy="43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b21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Obrázek 4" descr=""/>
          <p:cNvPicPr/>
          <p:nvPr/>
        </p:nvPicPr>
        <p:blipFill>
          <a:blip r:embed="rId1"/>
          <a:srcRect l="0" t="89416" r="0" b="-89914"/>
          <a:stretch/>
        </p:blipFill>
        <p:spPr>
          <a:xfrm>
            <a:off x="0" y="611964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SCI Beskydy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Obrázek 1" descr=""/>
          <p:cNvPicPr/>
          <p:nvPr/>
        </p:nvPicPr>
        <p:blipFill>
          <a:blip r:embed="rId2"/>
          <a:stretch/>
        </p:blipFill>
        <p:spPr>
          <a:xfrm>
            <a:off x="-44280" y="620640"/>
            <a:ext cx="3178080" cy="3456000"/>
          </a:xfrm>
          <a:prstGeom prst="rect">
            <a:avLst/>
          </a:prstGeom>
          <a:ln w="0">
            <a:noFill/>
          </a:ln>
        </p:spPr>
      </p:pic>
      <p:pic>
        <p:nvPicPr>
          <p:cNvPr id="104" name="Obrázek 2" descr=""/>
          <p:cNvPicPr/>
          <p:nvPr/>
        </p:nvPicPr>
        <p:blipFill>
          <a:blip r:embed="rId3"/>
          <a:srcRect l="0" t="0" r="0" b="1031"/>
          <a:stretch/>
        </p:blipFill>
        <p:spPr>
          <a:xfrm>
            <a:off x="3030480" y="620640"/>
            <a:ext cx="3592440" cy="3456000"/>
          </a:xfrm>
          <a:prstGeom prst="rect">
            <a:avLst/>
          </a:prstGeom>
          <a:ln w="0">
            <a:noFill/>
          </a:ln>
        </p:spPr>
      </p:pic>
      <p:pic>
        <p:nvPicPr>
          <p:cNvPr id="105" name="Obrázek 3" descr=""/>
          <p:cNvPicPr/>
          <p:nvPr/>
        </p:nvPicPr>
        <p:blipFill>
          <a:blip r:embed="rId4"/>
          <a:srcRect l="0" t="0" r="0" b="4174"/>
          <a:stretch/>
        </p:blipFill>
        <p:spPr>
          <a:xfrm>
            <a:off x="6111720" y="620640"/>
            <a:ext cx="3198960" cy="3527640"/>
          </a:xfrm>
          <a:prstGeom prst="rect">
            <a:avLst/>
          </a:prstGeom>
          <a:ln w="0">
            <a:noFill/>
          </a:ln>
        </p:spPr>
      </p:pic>
      <p:sp>
        <p:nvSpPr>
          <p:cNvPr id="106" name="TextovéPole 4"/>
          <p:cNvSpPr/>
          <p:nvPr/>
        </p:nvSpPr>
        <p:spPr>
          <a:xfrm>
            <a:off x="0" y="4508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ear                           lynx                               wol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Volný tvar 5"/>
          <p:cNvSpPr/>
          <p:nvPr/>
        </p:nvSpPr>
        <p:spPr>
          <a:xfrm>
            <a:off x="1330200" y="1262160"/>
            <a:ext cx="866880" cy="1780920"/>
          </a:xfrm>
          <a:custGeom>
            <a:avLst/>
            <a:gdLst/>
            <a:ahLst/>
            <a:rect l="l" t="t" r="r" b="b"/>
            <a:pathLst>
              <a:path w="866633" h="1781080">
                <a:moveTo>
                  <a:pt x="0" y="0"/>
                </a:moveTo>
                <a:cubicBezTo>
                  <a:pt x="75631" y="57434"/>
                  <a:pt x="151262" y="114869"/>
                  <a:pt x="197892" y="170597"/>
                </a:cubicBezTo>
                <a:cubicBezTo>
                  <a:pt x="244522" y="226325"/>
                  <a:pt x="250209" y="279779"/>
                  <a:pt x="279779" y="334370"/>
                </a:cubicBezTo>
                <a:cubicBezTo>
                  <a:pt x="309349" y="388961"/>
                  <a:pt x="355979" y="426492"/>
                  <a:pt x="375313" y="498143"/>
                </a:cubicBezTo>
                <a:cubicBezTo>
                  <a:pt x="394647" y="569794"/>
                  <a:pt x="385549" y="676702"/>
                  <a:pt x="395785" y="764275"/>
                </a:cubicBezTo>
                <a:cubicBezTo>
                  <a:pt x="406021" y="851848"/>
                  <a:pt x="419668" y="942833"/>
                  <a:pt x="436728" y="1023582"/>
                </a:cubicBezTo>
                <a:cubicBezTo>
                  <a:pt x="453788" y="1104331"/>
                  <a:pt x="493594" y="1172570"/>
                  <a:pt x="498143" y="1248770"/>
                </a:cubicBezTo>
                <a:cubicBezTo>
                  <a:pt x="502692" y="1324970"/>
                  <a:pt x="453788" y="1403445"/>
                  <a:pt x="464024" y="1480782"/>
                </a:cubicBezTo>
                <a:cubicBezTo>
                  <a:pt x="474260" y="1558119"/>
                  <a:pt x="511791" y="1662752"/>
                  <a:pt x="559558" y="1712794"/>
                </a:cubicBezTo>
                <a:cubicBezTo>
                  <a:pt x="607325" y="1762836"/>
                  <a:pt x="699448" y="1782170"/>
                  <a:pt x="750627" y="1781033"/>
                </a:cubicBezTo>
                <a:cubicBezTo>
                  <a:pt x="801806" y="1779896"/>
                  <a:pt x="834219" y="1742933"/>
                  <a:pt x="866633" y="1705970"/>
                </a:cubicBezTo>
              </a:path>
            </a:pathLst>
          </a:custGeom>
          <a:noFill/>
          <a:ln w="507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Volný tvar 9"/>
          <p:cNvSpPr/>
          <p:nvPr/>
        </p:nvSpPr>
        <p:spPr>
          <a:xfrm>
            <a:off x="4414680" y="1263600"/>
            <a:ext cx="866880" cy="1781280"/>
          </a:xfrm>
          <a:custGeom>
            <a:avLst/>
            <a:gdLst/>
            <a:ahLst/>
            <a:rect l="l" t="t" r="r" b="b"/>
            <a:pathLst>
              <a:path w="866633" h="1781080">
                <a:moveTo>
                  <a:pt x="0" y="0"/>
                </a:moveTo>
                <a:cubicBezTo>
                  <a:pt x="75631" y="57434"/>
                  <a:pt x="151262" y="114869"/>
                  <a:pt x="197892" y="170597"/>
                </a:cubicBezTo>
                <a:cubicBezTo>
                  <a:pt x="244522" y="226325"/>
                  <a:pt x="250209" y="279779"/>
                  <a:pt x="279779" y="334370"/>
                </a:cubicBezTo>
                <a:cubicBezTo>
                  <a:pt x="309349" y="388961"/>
                  <a:pt x="355979" y="426492"/>
                  <a:pt x="375313" y="498143"/>
                </a:cubicBezTo>
                <a:cubicBezTo>
                  <a:pt x="394647" y="569794"/>
                  <a:pt x="385549" y="676702"/>
                  <a:pt x="395785" y="764275"/>
                </a:cubicBezTo>
                <a:cubicBezTo>
                  <a:pt x="406021" y="851848"/>
                  <a:pt x="419668" y="942833"/>
                  <a:pt x="436728" y="1023582"/>
                </a:cubicBezTo>
                <a:cubicBezTo>
                  <a:pt x="453788" y="1104331"/>
                  <a:pt x="493594" y="1172570"/>
                  <a:pt x="498143" y="1248770"/>
                </a:cubicBezTo>
                <a:cubicBezTo>
                  <a:pt x="502692" y="1324970"/>
                  <a:pt x="453788" y="1403445"/>
                  <a:pt x="464024" y="1480782"/>
                </a:cubicBezTo>
                <a:cubicBezTo>
                  <a:pt x="474260" y="1558119"/>
                  <a:pt x="511791" y="1662752"/>
                  <a:pt x="559558" y="1712794"/>
                </a:cubicBezTo>
                <a:cubicBezTo>
                  <a:pt x="607325" y="1762836"/>
                  <a:pt x="699448" y="1782170"/>
                  <a:pt x="750627" y="1781033"/>
                </a:cubicBezTo>
                <a:cubicBezTo>
                  <a:pt x="801806" y="1779896"/>
                  <a:pt x="834219" y="1742933"/>
                  <a:pt x="866633" y="1705970"/>
                </a:cubicBezTo>
              </a:path>
            </a:pathLst>
          </a:custGeom>
          <a:noFill/>
          <a:ln w="507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Volný tvar 10"/>
          <p:cNvSpPr/>
          <p:nvPr/>
        </p:nvSpPr>
        <p:spPr>
          <a:xfrm>
            <a:off x="7488360" y="1268280"/>
            <a:ext cx="866520" cy="1774800"/>
          </a:xfrm>
          <a:custGeom>
            <a:avLst/>
            <a:gdLst/>
            <a:ahLst/>
            <a:rect l="l" t="t" r="r" b="b"/>
            <a:pathLst>
              <a:path w="866633" h="1781080">
                <a:moveTo>
                  <a:pt x="0" y="0"/>
                </a:moveTo>
                <a:cubicBezTo>
                  <a:pt x="75631" y="57434"/>
                  <a:pt x="151262" y="114869"/>
                  <a:pt x="197892" y="170597"/>
                </a:cubicBezTo>
                <a:cubicBezTo>
                  <a:pt x="244522" y="226325"/>
                  <a:pt x="250209" y="279779"/>
                  <a:pt x="279779" y="334370"/>
                </a:cubicBezTo>
                <a:cubicBezTo>
                  <a:pt x="309349" y="388961"/>
                  <a:pt x="355979" y="426492"/>
                  <a:pt x="375313" y="498143"/>
                </a:cubicBezTo>
                <a:cubicBezTo>
                  <a:pt x="394647" y="569794"/>
                  <a:pt x="385549" y="676702"/>
                  <a:pt x="395785" y="764275"/>
                </a:cubicBezTo>
                <a:cubicBezTo>
                  <a:pt x="406021" y="851848"/>
                  <a:pt x="419668" y="942833"/>
                  <a:pt x="436728" y="1023582"/>
                </a:cubicBezTo>
                <a:cubicBezTo>
                  <a:pt x="453788" y="1104331"/>
                  <a:pt x="493594" y="1172570"/>
                  <a:pt x="498143" y="1248770"/>
                </a:cubicBezTo>
                <a:cubicBezTo>
                  <a:pt x="502692" y="1324970"/>
                  <a:pt x="453788" y="1403445"/>
                  <a:pt x="464024" y="1480782"/>
                </a:cubicBezTo>
                <a:cubicBezTo>
                  <a:pt x="474260" y="1558119"/>
                  <a:pt x="511791" y="1662752"/>
                  <a:pt x="559558" y="1712794"/>
                </a:cubicBezTo>
                <a:cubicBezTo>
                  <a:pt x="607325" y="1762836"/>
                  <a:pt x="699448" y="1782170"/>
                  <a:pt x="750627" y="1781033"/>
                </a:cubicBezTo>
                <a:cubicBezTo>
                  <a:pt x="801806" y="1779896"/>
                  <a:pt x="834219" y="1742933"/>
                  <a:pt x="866633" y="1705970"/>
                </a:cubicBezTo>
              </a:path>
            </a:pathLst>
          </a:custGeom>
          <a:noFill/>
          <a:ln w="507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ovéPole 6"/>
          <p:cNvSpPr/>
          <p:nvPr/>
        </p:nvSpPr>
        <p:spPr>
          <a:xfrm>
            <a:off x="0" y="4076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arge carnivores - current distribu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Volný tvar 12"/>
          <p:cNvSpPr/>
          <p:nvPr/>
        </p:nvSpPr>
        <p:spPr>
          <a:xfrm>
            <a:off x="324000" y="4797360"/>
            <a:ext cx="866520" cy="1008000"/>
          </a:xfrm>
          <a:custGeom>
            <a:avLst/>
            <a:gdLst/>
            <a:ahLst/>
            <a:rect l="l" t="t" r="r" b="b"/>
            <a:pathLst>
              <a:path w="866633" h="1781080">
                <a:moveTo>
                  <a:pt x="0" y="0"/>
                </a:moveTo>
                <a:cubicBezTo>
                  <a:pt x="75631" y="57434"/>
                  <a:pt x="151262" y="114869"/>
                  <a:pt x="197892" y="170597"/>
                </a:cubicBezTo>
                <a:cubicBezTo>
                  <a:pt x="244522" y="226325"/>
                  <a:pt x="250209" y="279779"/>
                  <a:pt x="279779" y="334370"/>
                </a:cubicBezTo>
                <a:cubicBezTo>
                  <a:pt x="309349" y="388961"/>
                  <a:pt x="355979" y="426492"/>
                  <a:pt x="375313" y="498143"/>
                </a:cubicBezTo>
                <a:cubicBezTo>
                  <a:pt x="394647" y="569794"/>
                  <a:pt x="385549" y="676702"/>
                  <a:pt x="395785" y="764275"/>
                </a:cubicBezTo>
                <a:cubicBezTo>
                  <a:pt x="406021" y="851848"/>
                  <a:pt x="419668" y="942833"/>
                  <a:pt x="436728" y="1023582"/>
                </a:cubicBezTo>
                <a:cubicBezTo>
                  <a:pt x="453788" y="1104331"/>
                  <a:pt x="493594" y="1172570"/>
                  <a:pt x="498143" y="1248770"/>
                </a:cubicBezTo>
                <a:cubicBezTo>
                  <a:pt x="502692" y="1324970"/>
                  <a:pt x="453788" y="1403445"/>
                  <a:pt x="464024" y="1480782"/>
                </a:cubicBezTo>
                <a:cubicBezTo>
                  <a:pt x="474260" y="1558119"/>
                  <a:pt x="511791" y="1662752"/>
                  <a:pt x="559558" y="1712794"/>
                </a:cubicBezTo>
                <a:cubicBezTo>
                  <a:pt x="607325" y="1762836"/>
                  <a:pt x="699448" y="1782170"/>
                  <a:pt x="750627" y="1781033"/>
                </a:cubicBezTo>
                <a:cubicBezTo>
                  <a:pt x="801806" y="1779896"/>
                  <a:pt x="834219" y="1742933"/>
                  <a:pt x="866633" y="1705970"/>
                </a:cubicBezTo>
              </a:path>
            </a:pathLst>
          </a:custGeom>
          <a:noFill/>
          <a:ln w="507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ovéPole 13"/>
          <p:cNvSpPr/>
          <p:nvPr/>
        </p:nvSpPr>
        <p:spPr>
          <a:xfrm>
            <a:off x="1258920" y="505620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otorway pro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b21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Obrázek 4" descr=""/>
          <p:cNvPicPr/>
          <p:nvPr/>
        </p:nvPicPr>
        <p:blipFill>
          <a:blip r:embed="rId1"/>
          <a:srcRect l="0" t="89416" r="0" b="-89914"/>
          <a:stretch/>
        </p:blipFill>
        <p:spPr>
          <a:xfrm>
            <a:off x="0" y="611964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114" name="Obrázek 4" descr=""/>
          <p:cNvPicPr/>
          <p:nvPr/>
        </p:nvPicPr>
        <p:blipFill>
          <a:blip r:embed="rId2"/>
          <a:stretch/>
        </p:blipFill>
        <p:spPr>
          <a:xfrm>
            <a:off x="900000" y="476280"/>
            <a:ext cx="7280280" cy="48546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SCI Beskydy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ovéPole 10"/>
          <p:cNvSpPr/>
          <p:nvPr/>
        </p:nvSpPr>
        <p:spPr>
          <a:xfrm>
            <a:off x="6741360" y="2332080"/>
            <a:ext cx="11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l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ovéPole 11"/>
          <p:cNvSpPr/>
          <p:nvPr/>
        </p:nvSpPr>
        <p:spPr>
          <a:xfrm>
            <a:off x="3861720" y="4797360"/>
            <a:ext cx="132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lovak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ovéPole 12"/>
          <p:cNvSpPr/>
          <p:nvPr/>
        </p:nvSpPr>
        <p:spPr>
          <a:xfrm>
            <a:off x="2316240" y="1989000"/>
            <a:ext cx="23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zech Republ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ovéPole 13"/>
          <p:cNvSpPr/>
          <p:nvPr/>
        </p:nvSpPr>
        <p:spPr>
          <a:xfrm>
            <a:off x="36360" y="5300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arge carnivo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urr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istribution of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ulations and migration corridors (blue lines) within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TextovéPole 14"/>
          <p:cNvSpPr/>
          <p:nvPr/>
        </p:nvSpPr>
        <p:spPr>
          <a:xfrm>
            <a:off x="1865160" y="3111480"/>
            <a:ext cx="126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yn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ovéPole 15"/>
          <p:cNvSpPr/>
          <p:nvPr/>
        </p:nvSpPr>
        <p:spPr>
          <a:xfrm>
            <a:off x="5651640" y="1413000"/>
            <a:ext cx="126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yn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ovéPole 16"/>
          <p:cNvSpPr/>
          <p:nvPr/>
        </p:nvSpPr>
        <p:spPr>
          <a:xfrm>
            <a:off x="6516720" y="4840200"/>
            <a:ext cx="126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ol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ovéPole 17"/>
          <p:cNvSpPr/>
          <p:nvPr/>
        </p:nvSpPr>
        <p:spPr>
          <a:xfrm>
            <a:off x="1258920" y="4869000"/>
            <a:ext cx="12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yn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Volný tvar 9"/>
          <p:cNvSpPr/>
          <p:nvPr/>
        </p:nvSpPr>
        <p:spPr>
          <a:xfrm>
            <a:off x="4686480" y="2130480"/>
            <a:ext cx="866520" cy="1727280"/>
          </a:xfrm>
          <a:custGeom>
            <a:avLst/>
            <a:gdLst/>
            <a:ahLst/>
            <a:rect l="l" t="t" r="r" b="b"/>
            <a:pathLst>
              <a:path w="866633" h="1781080">
                <a:moveTo>
                  <a:pt x="0" y="0"/>
                </a:moveTo>
                <a:cubicBezTo>
                  <a:pt x="75631" y="57434"/>
                  <a:pt x="151262" y="114869"/>
                  <a:pt x="197892" y="170597"/>
                </a:cubicBezTo>
                <a:cubicBezTo>
                  <a:pt x="244522" y="226325"/>
                  <a:pt x="250209" y="279779"/>
                  <a:pt x="279779" y="334370"/>
                </a:cubicBezTo>
                <a:cubicBezTo>
                  <a:pt x="309349" y="388961"/>
                  <a:pt x="355979" y="426492"/>
                  <a:pt x="375313" y="498143"/>
                </a:cubicBezTo>
                <a:cubicBezTo>
                  <a:pt x="394647" y="569794"/>
                  <a:pt x="385549" y="676702"/>
                  <a:pt x="395785" y="764275"/>
                </a:cubicBezTo>
                <a:cubicBezTo>
                  <a:pt x="406021" y="851848"/>
                  <a:pt x="419668" y="942833"/>
                  <a:pt x="436728" y="1023582"/>
                </a:cubicBezTo>
                <a:cubicBezTo>
                  <a:pt x="453788" y="1104331"/>
                  <a:pt x="493594" y="1172570"/>
                  <a:pt x="498143" y="1248770"/>
                </a:cubicBezTo>
                <a:cubicBezTo>
                  <a:pt x="502692" y="1324970"/>
                  <a:pt x="453788" y="1403445"/>
                  <a:pt x="464024" y="1480782"/>
                </a:cubicBezTo>
                <a:cubicBezTo>
                  <a:pt x="474260" y="1558119"/>
                  <a:pt x="511791" y="1662752"/>
                  <a:pt x="559558" y="1712794"/>
                </a:cubicBezTo>
                <a:cubicBezTo>
                  <a:pt x="607325" y="1762836"/>
                  <a:pt x="699448" y="1782170"/>
                  <a:pt x="750627" y="1781033"/>
                </a:cubicBezTo>
                <a:cubicBezTo>
                  <a:pt x="801806" y="1779896"/>
                  <a:pt x="834219" y="1742933"/>
                  <a:pt x="866633" y="1705970"/>
                </a:cubicBezTo>
              </a:path>
            </a:pathLst>
          </a:custGeom>
          <a:noFill/>
          <a:ln w="507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b21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Obrázek 2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7956720" cy="55324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8920" y="764640"/>
            <a:ext cx="776628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"/>
          <p:cNvSpPr/>
          <p:nvPr/>
        </p:nvSpPr>
        <p:spPr>
          <a:xfrm>
            <a:off x="7524720" y="3933720"/>
            <a:ext cx="934920" cy="93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b21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Obrázek 1" descr=""/>
          <p:cNvPicPr/>
          <p:nvPr/>
        </p:nvPicPr>
        <p:blipFill>
          <a:blip r:embed="rId1"/>
          <a:srcRect l="4064" t="6201" r="4060" b="6206"/>
          <a:stretch/>
        </p:blipFill>
        <p:spPr>
          <a:xfrm>
            <a:off x="250920" y="1341360"/>
            <a:ext cx="5545080" cy="39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b21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1280" y="1916280"/>
            <a:ext cx="828180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 Narrow"/>
              </a:rPr>
              <a:t>SCI Olše (1.69 km</a:t>
            </a:r>
            <a:r>
              <a:rPr b="1" lang="cs-CZ" sz="2400" spc="-1" strike="noStrike" baseline="30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cs-CZ" sz="24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 Narrow"/>
              </a:rPr>
              <a:t>SCI Beskydy (1203.87 km</a:t>
            </a:r>
            <a:r>
              <a:rPr b="1" lang="cs-CZ" sz="2400" spc="-1" strike="noStrike" baseline="30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cs-CZ" sz="2400" spc="-1" strike="noStrike">
                <a:solidFill>
                  <a:srgbClr val="000000"/>
                </a:solidFill>
                <a:latin typeface="Arial Narrow"/>
              </a:rPr>
              <a:t>)</a:t>
            </a:r>
            <a:r>
              <a:rPr b="1" lang="cs-CZ" sz="2400" spc="-1" strike="noStrike">
                <a:solidFill>
                  <a:srgbClr val="ffffff"/>
                </a:solidFill>
                <a:latin typeface="Arial Narrow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" name="Obrázek 1" descr=""/>
          <p:cNvPicPr/>
          <p:nvPr/>
        </p:nvPicPr>
        <p:blipFill>
          <a:blip r:embed="rId1"/>
          <a:srcRect l="4064" t="6201" r="4060" b="6206"/>
          <a:stretch/>
        </p:blipFill>
        <p:spPr>
          <a:xfrm>
            <a:off x="0" y="1413000"/>
            <a:ext cx="5148360" cy="39211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 flipH="1" flipV="1">
            <a:off x="2123640" y="4365360"/>
            <a:ext cx="3024360" cy="64764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916000" y="2205000"/>
            <a:ext cx="3095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4CAD8-5503-42DF-9067-9FCD9E355383}" type="slidenum">
              <a:t>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b21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8436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CI Beskyd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1280" y="1916280"/>
            <a:ext cx="777240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1"/>
          <a:stretch/>
        </p:blipFill>
        <p:spPr>
          <a:xfrm>
            <a:off x="0" y="1197000"/>
            <a:ext cx="9317160" cy="5933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DE4FB-EE4A-46E0-9231-F2FE1258A210}" type="slidenum">
              <a:t>5</a:t>
            </a:fld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b21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463680"/>
            <a:ext cx="777240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CI Olš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11280" y="2060640"/>
            <a:ext cx="77724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0" y="2708280"/>
            <a:ext cx="9434520" cy="2324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C08E1-9C79-4A33-9459-85D3B0C8CEA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b21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Obrázek 4" descr=""/>
          <p:cNvPicPr/>
          <p:nvPr/>
        </p:nvPicPr>
        <p:blipFill>
          <a:blip r:embed="rId1"/>
          <a:srcRect l="0" t="89416" r="0" b="-89914"/>
          <a:stretch/>
        </p:blipFill>
        <p:spPr>
          <a:xfrm>
            <a:off x="0" y="6093000"/>
            <a:ext cx="9144000" cy="68752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roj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Obrázek 1" descr=""/>
          <p:cNvPicPr/>
          <p:nvPr/>
        </p:nvPicPr>
        <p:blipFill>
          <a:blip r:embed="rId2"/>
          <a:srcRect l="4064" t="6201" r="4060" b="6206"/>
          <a:stretch/>
        </p:blipFill>
        <p:spPr>
          <a:xfrm>
            <a:off x="0" y="1052640"/>
            <a:ext cx="7451640" cy="5022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3"/>
          <a:stretch/>
        </p:blipFill>
        <p:spPr>
          <a:xfrm>
            <a:off x="5724360" y="1077840"/>
            <a:ext cx="3402000" cy="5005440"/>
          </a:xfrm>
          <a:prstGeom prst="rect">
            <a:avLst/>
          </a:prstGeom>
          <a:ln w="0">
            <a:noFill/>
          </a:ln>
        </p:spPr>
      </p:pic>
      <p:sp>
        <p:nvSpPr>
          <p:cNvPr id="77" name="TextovéPole 2"/>
          <p:cNvSpPr/>
          <p:nvPr/>
        </p:nvSpPr>
        <p:spPr>
          <a:xfrm>
            <a:off x="3828240" y="1814400"/>
            <a:ext cx="11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l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TextovéPole 7"/>
          <p:cNvSpPr/>
          <p:nvPr/>
        </p:nvSpPr>
        <p:spPr>
          <a:xfrm>
            <a:off x="3214080" y="5056200"/>
            <a:ext cx="132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lovak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4524120" y="253692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I Olš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Obdélník 9"/>
          <p:cNvSpPr/>
          <p:nvPr/>
        </p:nvSpPr>
        <p:spPr>
          <a:xfrm>
            <a:off x="7688160" y="285264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I Olš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Obdélník 10"/>
          <p:cNvSpPr/>
          <p:nvPr/>
        </p:nvSpPr>
        <p:spPr>
          <a:xfrm>
            <a:off x="1115640" y="3860640"/>
            <a:ext cx="271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PA and SCI Beskyd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Obdélník 11"/>
          <p:cNvSpPr/>
          <p:nvPr/>
        </p:nvSpPr>
        <p:spPr>
          <a:xfrm>
            <a:off x="5781600" y="3789360"/>
            <a:ext cx="1374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PA and SCI Beskyd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83" name="Přímá spojnice se šipkou 5"/>
          <p:cNvCxnSpPr/>
          <p:nvPr/>
        </p:nvCxnSpPr>
        <p:spPr>
          <a:xfrm flipH="1">
            <a:off x="4307760" y="3052800"/>
            <a:ext cx="624600" cy="7135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4" name="Přímá spojnice se šipkou 16"/>
          <p:cNvCxnSpPr/>
          <p:nvPr/>
        </p:nvCxnSpPr>
        <p:spPr>
          <a:xfrm flipH="1">
            <a:off x="7835040" y="3365280"/>
            <a:ext cx="624600" cy="7117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85" name="TextovéPole 17"/>
          <p:cNvSpPr/>
          <p:nvPr/>
        </p:nvSpPr>
        <p:spPr>
          <a:xfrm>
            <a:off x="700200" y="2390760"/>
            <a:ext cx="23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zech Republ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Volný tvar 5"/>
          <p:cNvSpPr/>
          <p:nvPr/>
        </p:nvSpPr>
        <p:spPr>
          <a:xfrm>
            <a:off x="3790800" y="2943360"/>
            <a:ext cx="866880" cy="1780920"/>
          </a:xfrm>
          <a:custGeom>
            <a:avLst/>
            <a:gdLst/>
            <a:ahLst/>
            <a:rect l="l" t="t" r="r" b="b"/>
            <a:pathLst>
              <a:path w="866633" h="1781080">
                <a:moveTo>
                  <a:pt x="0" y="0"/>
                </a:moveTo>
                <a:cubicBezTo>
                  <a:pt x="75631" y="57434"/>
                  <a:pt x="151262" y="114869"/>
                  <a:pt x="197892" y="170597"/>
                </a:cubicBezTo>
                <a:cubicBezTo>
                  <a:pt x="244522" y="226325"/>
                  <a:pt x="250209" y="279779"/>
                  <a:pt x="279779" y="334370"/>
                </a:cubicBezTo>
                <a:cubicBezTo>
                  <a:pt x="309349" y="388961"/>
                  <a:pt x="355979" y="426492"/>
                  <a:pt x="375313" y="498143"/>
                </a:cubicBezTo>
                <a:cubicBezTo>
                  <a:pt x="394647" y="569794"/>
                  <a:pt x="385549" y="676702"/>
                  <a:pt x="395785" y="764275"/>
                </a:cubicBezTo>
                <a:cubicBezTo>
                  <a:pt x="406021" y="851848"/>
                  <a:pt x="419668" y="942833"/>
                  <a:pt x="436728" y="1023582"/>
                </a:cubicBezTo>
                <a:cubicBezTo>
                  <a:pt x="453788" y="1104331"/>
                  <a:pt x="493594" y="1172570"/>
                  <a:pt x="498143" y="1248770"/>
                </a:cubicBezTo>
                <a:cubicBezTo>
                  <a:pt x="502692" y="1324970"/>
                  <a:pt x="453788" y="1403445"/>
                  <a:pt x="464024" y="1480782"/>
                </a:cubicBezTo>
                <a:cubicBezTo>
                  <a:pt x="474260" y="1558119"/>
                  <a:pt x="511791" y="1662752"/>
                  <a:pt x="559558" y="1712794"/>
                </a:cubicBezTo>
                <a:cubicBezTo>
                  <a:pt x="607325" y="1762836"/>
                  <a:pt x="699448" y="1782170"/>
                  <a:pt x="750627" y="1781033"/>
                </a:cubicBezTo>
                <a:cubicBezTo>
                  <a:pt x="801806" y="1779896"/>
                  <a:pt x="834219" y="1742933"/>
                  <a:pt x="866633" y="1705970"/>
                </a:cubicBezTo>
              </a:path>
            </a:pathLst>
          </a:custGeom>
          <a:noFill/>
          <a:ln w="507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4"/>
          <a:srcRect l="0" t="0" r="0" b="6948"/>
          <a:stretch/>
        </p:blipFill>
        <p:spPr>
          <a:xfrm>
            <a:off x="5826240" y="1440000"/>
            <a:ext cx="306684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b21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659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Identification of imp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65920" cy="496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spcBef>
                <a:spcPts val="799"/>
              </a:spcBef>
              <a:buClr>
                <a:srgbClr val="000000"/>
              </a:buClr>
              <a:buFont typeface="Arial Narrow"/>
              <a:buAutoNum type="alphaLcParenR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during construction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91120" indent="-591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land take, habitat destruc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91120" indent="-591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isturbance (trucks, machinery, people, noise and light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91120" indent="-591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utting of migration rout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91120" indent="-591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mpact on aquatic creatures (bridges construction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91120" indent="0"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  <a:p>
            <a:pPr marL="591120" indent="-591120">
              <a:spcBef>
                <a:spcPts val="799"/>
              </a:spcBef>
              <a:buClr>
                <a:srgbClr val="000000"/>
              </a:buClr>
              <a:buFont typeface="Arial Narrow"/>
              <a:buAutoNum type="alphaLcParenR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during operation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91120" indent="-591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isturbanc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91120" indent="-591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oadkill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91120" indent="-591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ir and water pollution (oil spills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91120" indent="0"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b21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659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Which target features may be impac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483920"/>
            <a:ext cx="7765920" cy="46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 Narrow"/>
              </a:rPr>
              <a:t>SCI Beskyd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92" name="Picture 5" descr=""/>
          <p:cNvPicPr/>
          <p:nvPr/>
        </p:nvPicPr>
        <p:blipFill>
          <a:blip r:embed="rId1"/>
          <a:stretch/>
        </p:blipFill>
        <p:spPr>
          <a:xfrm>
            <a:off x="0" y="1341360"/>
            <a:ext cx="9317160" cy="59342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211640" y="2133720"/>
            <a:ext cx="1297080" cy="358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211640" y="3429000"/>
            <a:ext cx="1081080" cy="3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211640" y="4292640"/>
            <a:ext cx="1297080" cy="3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r Roth</cp:lastModifiedBy>
  <cp:lastPrinted>2004-11-17T18:27:25Z</cp:lastPrinted>
  <dcterms:modified xsi:type="dcterms:W3CDTF">2014-10-29T20:40:44Z</dcterms:modified>
  <cp:revision>194</cp:revision>
  <dc:subject/>
  <dc:title>PowerPoint Presentation</dc:title>
</cp:coreProperties>
</file>